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8.jpeg" ContentType="image/jpeg"/>
  <Override PartName="/ppt/media/image7.jpeg" ContentType="image/jpeg"/>
  <Override PartName="/ppt/media/image34.jpeg" ContentType="image/jpeg"/>
  <Override PartName="/ppt/media/image6.jpeg" ContentType="image/jpeg"/>
  <Override PartName="/ppt/media/image13.png" ContentType="image/png"/>
  <Override PartName="/ppt/media/image29.jpeg" ContentType="image/jpeg"/>
  <Override PartName="/ppt/media/image8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0.jpeg" ContentType="image/jpeg"/>
  <Override PartName="/ppt/media/image12.png" ContentType="image/png"/>
  <Override PartName="/ppt/media/image31.jpeg" ContentType="image/jpeg"/>
  <Override PartName="/ppt/media/image4.jpeg" ContentType="image/jpeg"/>
  <Override PartName="/ppt/media/image5.jpeg" ContentType="image/jpeg"/>
  <Override PartName="/ppt/media/image2.jpeg" ContentType="image/jpeg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25.png" ContentType="image/png"/>
  <Override PartName="/ppt/media/image19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0441-03C9-40DE-8B38-A260F9FAC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5C3B-7FCA-49DB-82A9-07B8C7EBD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FF29-5ECA-4B97-A1B0-E1FFA1991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002D-551A-4B92-8A86-6923B17C4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6FAF-C5DD-41B2-A9B8-70587E493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F6AB-BDE5-4513-875A-1517C13A7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2EC0-07C2-41BB-8B90-9E8AFFAB5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E28E-B5D4-4D1D-94D7-1B2A797CC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5863-00C8-41A9-A27C-0F383F6A9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4FA1-EB22-4FBE-9282-9B6EE280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6836-1971-444F-A054-11E4B3D73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9E2F-CA4C-4F43-87F0-E206D1FA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01F6D-A6D6-4CB0-9DBD-7F3B7F52EF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3.png"/><Relationship Id="rId14" Type="http://schemas.openxmlformats.org/officeDocument/2006/relationships/image" Target="../media/image23.png"/><Relationship Id="rId15" Type="http://schemas.openxmlformats.org/officeDocument/2006/relationships/image" Target="../media/image23.png"/><Relationship Id="rId16" Type="http://schemas.openxmlformats.org/officeDocument/2006/relationships/image" Target="../media/image23.png"/><Relationship Id="rId17" Type="http://schemas.openxmlformats.org/officeDocument/2006/relationships/image" Target="../media/image23.png"/><Relationship Id="rId18" Type="http://schemas.openxmlformats.org/officeDocument/2006/relationships/image" Target="../media/image23.png"/><Relationship Id="rId19" Type="http://schemas.openxmlformats.org/officeDocument/2006/relationships/image" Target="../media/image23.png"/><Relationship Id="rId20" Type="http://schemas.openxmlformats.org/officeDocument/2006/relationships/image" Target="../media/image23.png"/><Relationship Id="rId21" Type="http://schemas.openxmlformats.org/officeDocument/2006/relationships/image" Target="../media/image23.png"/><Relationship Id="rId22" Type="http://schemas.openxmlformats.org/officeDocument/2006/relationships/image" Target="../media/image23.png"/><Relationship Id="rId23" Type="http://schemas.openxmlformats.org/officeDocument/2006/relationships/image" Target="../media/image23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3.png"/><Relationship Id="rId30" Type="http://schemas.openxmlformats.org/officeDocument/2006/relationships/image" Target="../media/image23.png"/><Relationship Id="rId31" Type="http://schemas.openxmlformats.org/officeDocument/2006/relationships/image" Target="../media/image23.png"/><Relationship Id="rId32" Type="http://schemas.openxmlformats.org/officeDocument/2006/relationships/image" Target="../media/image1.png"/><Relationship Id="rId3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88920" y="360216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2c02"/>
                </a:solidFill>
                <a:latin typeface="Comic Sans MS"/>
              </a:rPr>
              <a:t>196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609480"/>
            <a:ext cx="815328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590920" y="2232000"/>
            <a:ext cx="2060280" cy="790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5562720" y="2357280"/>
            <a:ext cx="1218960" cy="601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2590920" y="3417840"/>
            <a:ext cx="4516200" cy="652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2590920" y="435600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5405400" y="4427640"/>
            <a:ext cx="1528920" cy="531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2666880" y="5340240"/>
            <a:ext cx="1030320" cy="37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5106960" y="5302080"/>
            <a:ext cx="1785960" cy="3430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666880" y="3048120"/>
            <a:ext cx="1905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562720" y="304812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66880" y="4121280"/>
            <a:ext cx="4419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66880" y="4889520"/>
            <a:ext cx="1371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481720" y="4883040"/>
            <a:ext cx="1371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3200" y="5708520"/>
            <a:ext cx="9144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183280" y="5721480"/>
            <a:ext cx="1600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939040" y="29718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-3 gruppo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71200" y="2971800"/>
            <a:ext cx="142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4-5 gruppo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352680" y="4044960"/>
            <a:ext cx="171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-6-12 gruppo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480760" y="4800600"/>
            <a:ext cx="166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3-15 gruppo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01720" y="4807080"/>
            <a:ext cx="163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6-18 gruppo 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83360" y="5645160"/>
            <a:ext cx="162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9-20 gruppo 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90400" y="5645160"/>
            <a:ext cx="184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-21-22 gruppo 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438280" y="2133720"/>
            <a:ext cx="4724640" cy="4114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13400" y="6437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828800" y="83808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Conferenza di Den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09520" y="684360"/>
            <a:ext cx="8809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09520" y="6678720"/>
            <a:ext cx="8809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809880" y="7632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72" name=""/>
          <p:cNvSpPr/>
          <p:nvPr/>
        </p:nvSpPr>
        <p:spPr>
          <a:xfrm>
            <a:off x="113400" y="64771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6094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09480" y="2057400"/>
            <a:ext cx="3513960" cy="1231920"/>
            <a:chOff x="609480" y="2057400"/>
            <a:chExt cx="3513960" cy="1231920"/>
          </a:xfrm>
        </p:grpSpPr>
        <p:sp>
          <p:nvSpPr>
            <p:cNvPr id="175" name=""/>
            <p:cNvSpPr/>
            <p:nvPr/>
          </p:nvSpPr>
          <p:spPr>
            <a:xfrm>
              <a:off x="2796840" y="2743200"/>
              <a:ext cx="132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doppia el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di DN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609480" y="2057400"/>
              <a:ext cx="2210040" cy="1231920"/>
              <a:chOff x="609480" y="2057400"/>
              <a:chExt cx="2210040" cy="1231920"/>
            </a:xfrm>
          </p:grpSpPr>
          <p:sp>
            <p:nvSpPr>
              <p:cNvPr id="177" name=""/>
              <p:cNvSpPr/>
              <p:nvPr/>
            </p:nvSpPr>
            <p:spPr>
              <a:xfrm>
                <a:off x="1676520" y="2057400"/>
                <a:ext cx="685800" cy="685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H="1">
                <a:off x="990360" y="2057400"/>
                <a:ext cx="685800" cy="685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09480" y="2793960"/>
                <a:ext cx="2210040" cy="482760"/>
              </a:xfrm>
              <a:custGeom>
                <a:avLst/>
                <a:gdLst/>
                <a:ahLst/>
                <a:rect l="l" t="t" r="r" b="b"/>
                <a:pathLst>
                  <a:path w="1392" h="304">
                    <a:moveTo>
                      <a:pt x="0" y="16"/>
                    </a:moveTo>
                    <a:cubicBezTo>
                      <a:pt x="80" y="160"/>
                      <a:pt x="160" y="304"/>
                      <a:pt x="240" y="304"/>
                    </a:cubicBezTo>
                    <a:cubicBezTo>
                      <a:pt x="320" y="304"/>
                      <a:pt x="408" y="32"/>
                      <a:pt x="480" y="16"/>
                    </a:cubicBezTo>
                    <a:cubicBezTo>
                      <a:pt x="552" y="0"/>
                      <a:pt x="600" y="208"/>
                      <a:pt x="672" y="208"/>
                    </a:cubicBezTo>
                    <a:cubicBezTo>
                      <a:pt x="744" y="208"/>
                      <a:pt x="848" y="16"/>
                      <a:pt x="912" y="16"/>
                    </a:cubicBezTo>
                    <a:cubicBezTo>
                      <a:pt x="976" y="16"/>
                      <a:pt x="1000" y="200"/>
                      <a:pt x="1056" y="208"/>
                    </a:cubicBezTo>
                    <a:cubicBezTo>
                      <a:pt x="1112" y="216"/>
                      <a:pt x="1192" y="72"/>
                      <a:pt x="1248" y="64"/>
                    </a:cubicBezTo>
                    <a:cubicBezTo>
                      <a:pt x="1304" y="56"/>
                      <a:pt x="1368" y="144"/>
                      <a:pt x="1392" y="160"/>
                    </a:cubicBez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62120" y="2743200"/>
                <a:ext cx="1981080" cy="546120"/>
              </a:xfrm>
              <a:custGeom>
                <a:avLst/>
                <a:gdLst/>
                <a:ahLst/>
                <a:rect l="l" t="t" r="r" b="b"/>
                <a:pathLst>
                  <a:path w="1248" h="344">
                    <a:moveTo>
                      <a:pt x="0" y="0"/>
                    </a:moveTo>
                    <a:cubicBezTo>
                      <a:pt x="80" y="168"/>
                      <a:pt x="160" y="336"/>
                      <a:pt x="240" y="336"/>
                    </a:cubicBezTo>
                    <a:cubicBezTo>
                      <a:pt x="320" y="336"/>
                      <a:pt x="408" y="0"/>
                      <a:pt x="480" y="0"/>
                    </a:cubicBezTo>
                    <a:cubicBezTo>
                      <a:pt x="552" y="0"/>
                      <a:pt x="600" y="328"/>
                      <a:pt x="672" y="336"/>
                    </a:cubicBezTo>
                    <a:cubicBezTo>
                      <a:pt x="744" y="344"/>
                      <a:pt x="848" y="56"/>
                      <a:pt x="912" y="48"/>
                    </a:cubicBezTo>
                    <a:cubicBezTo>
                      <a:pt x="976" y="40"/>
                      <a:pt x="1016" y="272"/>
                      <a:pt x="1056" y="288"/>
                    </a:cubicBezTo>
                    <a:cubicBezTo>
                      <a:pt x="1096" y="304"/>
                      <a:pt x="1120" y="152"/>
                      <a:pt x="1152" y="144"/>
                    </a:cubicBezTo>
                    <a:cubicBezTo>
                      <a:pt x="1184" y="136"/>
                      <a:pt x="1232" y="224"/>
                      <a:pt x="1248" y="240"/>
                    </a:cubicBezTo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523880" y="2819520"/>
                <a:ext cx="228600" cy="380880"/>
              </a:xfrm>
              <a:custGeom>
                <a:avLst/>
                <a:gdLst>
                  <a:gd name="textAreaLeft" fmla="*/ 11160 w 228600"/>
                  <a:gd name="textAreaRight" fmla="*/ 217440 w 228600"/>
                  <a:gd name="textAreaTop" fmla="*/ 11160 h 380880"/>
                  <a:gd name="textAreaBottom" fmla="*/ 369720 h 380880"/>
                </a:gdLst>
                <a:ahLst/>
                <a:rect l="textAreaLeft" t="textAreaTop" r="textAreaRight" b="textAreaBottom"/>
                <a:pathLst>
                  <a:path w="21600" h="35966">
                    <a:moveTo>
                      <a:pt x="3600" y="0"/>
                    </a:moveTo>
                    <a:arcTo wR="3600" hR="3600" stAng="16200000" swAng="-5400000"/>
                    <a:lnTo>
                      <a:pt x="0" y="32366"/>
                    </a:lnTo>
                    <a:arcTo wR="3600" hR="3600" stAng="10800000" swAng="-5400000"/>
                    <a:lnTo>
                      <a:pt x="18000" y="3596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2" name=""/>
          <p:cNvGrpSpPr/>
          <p:nvPr/>
        </p:nvGrpSpPr>
        <p:grpSpPr>
          <a:xfrm>
            <a:off x="152280" y="3174840"/>
            <a:ext cx="2743200" cy="1231920"/>
            <a:chOff x="152280" y="3174840"/>
            <a:chExt cx="2743200" cy="1231920"/>
          </a:xfrm>
        </p:grpSpPr>
        <p:sp>
          <p:nvSpPr>
            <p:cNvPr id="183" name=""/>
            <p:cNvSpPr/>
            <p:nvPr/>
          </p:nvSpPr>
          <p:spPr>
            <a:xfrm>
              <a:off x="1701720" y="3174840"/>
              <a:ext cx="60984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927000" y="3174840"/>
              <a:ext cx="60984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52280" y="388620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62120" y="3886200"/>
              <a:ext cx="1752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438280" y="38862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38080" y="38862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990720" y="38862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143000" y="38862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295280" y="38862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447920" y="38862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600200" y="38862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752480" y="38862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05120" y="38862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057400" y="38862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209680" y="38862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362320" y="38862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514600" y="38862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152280" y="440676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762120" y="4406760"/>
              <a:ext cx="1752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2438280" y="440676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836640" y="4254120"/>
              <a:ext cx="2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989280" y="4254120"/>
              <a:ext cx="2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1141560" y="4254120"/>
              <a:ext cx="2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1293840" y="4254120"/>
              <a:ext cx="2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1446480" y="4254120"/>
              <a:ext cx="2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1598760" y="4254120"/>
              <a:ext cx="2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1751040" y="4254120"/>
              <a:ext cx="2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1903680" y="4254120"/>
              <a:ext cx="2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2055960" y="4254120"/>
              <a:ext cx="2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2208240" y="4254120"/>
              <a:ext cx="2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2360880" y="4254120"/>
              <a:ext cx="2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2513160" y="4254120"/>
              <a:ext cx="2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90480" y="3886200"/>
              <a:ext cx="28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48520" y="3886200"/>
              <a:ext cx="26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004760" y="3886200"/>
              <a:ext cx="278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155960" y="388620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308240" y="388620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472400" y="3886200"/>
              <a:ext cx="26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619280" y="3886200"/>
              <a:ext cx="28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777320" y="3886200"/>
              <a:ext cx="26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919160" y="3886200"/>
              <a:ext cx="278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071440" y="3886200"/>
              <a:ext cx="278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234520" y="3886200"/>
              <a:ext cx="26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381040" y="3886200"/>
              <a:ext cx="28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08840" y="4052880"/>
              <a:ext cx="26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55720" y="4051440"/>
              <a:ext cx="28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001880" y="403848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141560" y="403848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295280" y="4038480"/>
              <a:ext cx="278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465200" y="4038480"/>
              <a:ext cx="28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623240" y="4038480"/>
              <a:ext cx="26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770120" y="4038480"/>
              <a:ext cx="28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916280" y="403848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068560" y="403848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227320" y="4038480"/>
              <a:ext cx="28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385360" y="4038480"/>
              <a:ext cx="26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7223040" y="3709440"/>
            <a:ext cx="1746000" cy="2738520"/>
            <a:chOff x="7223040" y="3709440"/>
            <a:chExt cx="1746000" cy="2738520"/>
          </a:xfrm>
        </p:grpSpPr>
        <p:grpSp>
          <p:nvGrpSpPr>
            <p:cNvPr id="240" name=""/>
            <p:cNvGrpSpPr/>
            <p:nvPr/>
          </p:nvGrpSpPr>
          <p:grpSpPr>
            <a:xfrm>
              <a:off x="7223040" y="3709440"/>
              <a:ext cx="1746000" cy="2738520"/>
              <a:chOff x="7223040" y="3709440"/>
              <a:chExt cx="1746000" cy="2738520"/>
            </a:xfrm>
          </p:grpSpPr>
          <p:sp>
            <p:nvSpPr>
              <p:cNvPr id="241" name=""/>
              <p:cNvSpPr/>
              <p:nvPr/>
            </p:nvSpPr>
            <p:spPr>
              <a:xfrm rot="5388600">
                <a:off x="7391880" y="4799880"/>
                <a:ext cx="2662200" cy="482760"/>
              </a:xfrm>
              <a:prstGeom prst="parallelogram">
                <a:avLst>
                  <a:gd name="adj" fmla="val 137864"/>
                </a:avLst>
              </a:prstGeom>
              <a:solidFill>
                <a:srgbClr val="f3f3f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2" name=""/>
              <p:cNvGrpSpPr/>
              <p:nvPr/>
            </p:nvGrpSpPr>
            <p:grpSpPr>
              <a:xfrm>
                <a:off x="8557200" y="4419000"/>
                <a:ext cx="309600" cy="1220040"/>
                <a:chOff x="8557200" y="4419000"/>
                <a:chExt cx="309600" cy="1220040"/>
              </a:xfrm>
            </p:grpSpPr>
            <p:sp>
              <p:nvSpPr>
                <p:cNvPr id="243" name=""/>
                <p:cNvSpPr/>
                <p:nvPr/>
              </p:nvSpPr>
              <p:spPr>
                <a:xfrm rot="5385000">
                  <a:off x="8408160" y="5180760"/>
                  <a:ext cx="761760" cy="152280"/>
                </a:xfrm>
                <a:prstGeom prst="flowChartTerminator">
                  <a:avLst/>
                </a:prstGeom>
                <a:gradFill rotWithShape="0">
                  <a:gsLst>
                    <a:gs pos="0">
                      <a:srgbClr val="750500"/>
                    </a:gs>
                    <a:gs pos="50000">
                      <a:srgbClr val="ff0b02"/>
                    </a:gs>
                    <a:gs pos="100000">
                      <a:srgbClr val="750500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 rot="5385000">
                  <a:off x="8557920" y="4571280"/>
                  <a:ext cx="456840" cy="152280"/>
                </a:xfrm>
                <a:prstGeom prst="flowChartTerminator">
                  <a:avLst/>
                </a:prstGeom>
                <a:gradFill rotWithShape="0">
                  <a:gsLst>
                    <a:gs pos="0">
                      <a:srgbClr val="750500"/>
                    </a:gs>
                    <a:gs pos="50000">
                      <a:srgbClr val="ff0b02"/>
                    </a:gs>
                    <a:gs pos="100000">
                      <a:srgbClr val="750500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rot="5385000">
                  <a:off x="8255880" y="5181480"/>
                  <a:ext cx="761760" cy="152280"/>
                </a:xfrm>
                <a:prstGeom prst="flowChartTerminator">
                  <a:avLst/>
                </a:prstGeom>
                <a:gradFill rotWithShape="0">
                  <a:gsLst>
                    <a:gs pos="0">
                      <a:srgbClr val="750500"/>
                    </a:gs>
                    <a:gs pos="50000">
                      <a:srgbClr val="ff0b02"/>
                    </a:gs>
                    <a:gs pos="100000">
                      <a:srgbClr val="750500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rot="5385000">
                  <a:off x="8405640" y="4572000"/>
                  <a:ext cx="456840" cy="152280"/>
                </a:xfrm>
                <a:prstGeom prst="flowChartTerminator">
                  <a:avLst/>
                </a:prstGeom>
                <a:gradFill rotWithShape="0">
                  <a:gsLst>
                    <a:gs pos="0">
                      <a:srgbClr val="750500"/>
                    </a:gs>
                    <a:gs pos="50000">
                      <a:srgbClr val="ff0b02"/>
                    </a:gs>
                    <a:gs pos="100000">
                      <a:srgbClr val="750500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 rot="5385000">
                  <a:off x="8634960" y="4762080"/>
                  <a:ext cx="151920" cy="228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8" name=""/>
              <p:cNvSpPr/>
              <p:nvPr/>
            </p:nvSpPr>
            <p:spPr>
              <a:xfrm flipH="1">
                <a:off x="7538760" y="5052240"/>
                <a:ext cx="1077120" cy="715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>
                <a:off x="7543800" y="5105520"/>
                <a:ext cx="990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223040" y="5867280"/>
                <a:ext cx="14227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osservazion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del vetrin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>
              <a:off x="8534520" y="5029200"/>
              <a:ext cx="164880" cy="177840"/>
            </a:xfrm>
            <a:prstGeom prst="irregularSeal2">
              <a:avLst/>
            </a:prstGeom>
            <a:solidFill>
              <a:srgbClr val="00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699400" y="5016600"/>
              <a:ext cx="165240" cy="177840"/>
            </a:xfrm>
            <a:prstGeom prst="irregularSeal2">
              <a:avLst/>
            </a:prstGeom>
            <a:solidFill>
              <a:srgbClr val="00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203040" y="4495680"/>
            <a:ext cx="2692440" cy="1282320"/>
            <a:chOff x="203040" y="4495680"/>
            <a:chExt cx="2692440" cy="1282320"/>
          </a:xfrm>
        </p:grpSpPr>
        <p:sp>
          <p:nvSpPr>
            <p:cNvPr id="254" name=""/>
            <p:cNvSpPr/>
            <p:nvPr/>
          </p:nvSpPr>
          <p:spPr>
            <a:xfrm>
              <a:off x="203040" y="510552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203040" y="576576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435600" y="4495680"/>
              <a:ext cx="2459880" cy="1282320"/>
              <a:chOff x="435600" y="4495680"/>
              <a:chExt cx="2459880" cy="1282320"/>
            </a:xfrm>
          </p:grpSpPr>
          <p:sp>
            <p:nvSpPr>
              <p:cNvPr id="257" name=""/>
              <p:cNvSpPr/>
              <p:nvPr/>
            </p:nvSpPr>
            <p:spPr>
              <a:xfrm>
                <a:off x="812880" y="5105520"/>
                <a:ext cx="1752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489040" y="5105520"/>
                <a:ext cx="406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888840" y="5105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041480" y="5105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193760" y="5105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1346040" y="5105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498680" y="5105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650960" y="5105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803240" y="5105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955880" y="5105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108160" y="5105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260440" y="5105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413080" y="5105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565360" y="5105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H="1">
                <a:off x="812880" y="5765760"/>
                <a:ext cx="1752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 flipV="1">
                <a:off x="2488680" y="5765400"/>
                <a:ext cx="406440" cy="12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887400" y="56131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1040040" y="56131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1192320" y="56131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1344600" y="56131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1497240" y="56131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V="1">
                <a:off x="1649520" y="56131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V="1">
                <a:off x="1801800" y="56131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V="1">
                <a:off x="1954440" y="56131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>
                <a:off x="2106720" y="56131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V="1">
                <a:off x="2259000" y="56131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V="1">
                <a:off x="2411640" y="56131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V="1">
                <a:off x="2563920" y="56131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41240" y="510552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899280" y="510552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055520" y="51055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206720" y="510552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359000" y="510552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523160" y="510552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670040" y="510552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828080" y="510552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969920" y="51055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122560" y="51055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285280" y="510552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431800" y="510552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759600" y="541188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906480" y="541008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052640" y="539748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192320" y="539748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346040" y="539748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15960" y="539748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674000" y="539748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820880" y="539748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967040" y="539748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119320" y="539748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278080" y="539748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436120" y="539748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>
                <a:off x="2349360" y="576576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209680" y="4495680"/>
                <a:ext cx="228600" cy="457200"/>
              </a:xfrm>
              <a:prstGeom prst="downArrow">
                <a:avLst>
                  <a:gd name="adj1" fmla="val 50000"/>
                  <a:gd name="adj2" fmla="val 50000"/>
                </a:avLst>
              </a:prstGeom>
              <a:gradFill rotWithShape="0">
                <a:gsLst>
                  <a:gs pos="0">
                    <a:srgbClr val="ffff02"/>
                  </a:gs>
                  <a:gs pos="50000">
                    <a:srgbClr val="ff0b02"/>
                  </a:gs>
                  <a:gs pos="100000">
                    <a:srgbClr val="ffff02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35600" y="4495680"/>
                <a:ext cx="156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denaturazion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2" name=""/>
          <p:cNvGrpSpPr/>
          <p:nvPr/>
        </p:nvGrpSpPr>
        <p:grpSpPr>
          <a:xfrm>
            <a:off x="258120" y="990720"/>
            <a:ext cx="2709000" cy="1143000"/>
            <a:chOff x="258120" y="990720"/>
            <a:chExt cx="2709000" cy="1143000"/>
          </a:xfrm>
        </p:grpSpPr>
        <p:sp>
          <p:nvSpPr>
            <p:cNvPr id="313" name=""/>
            <p:cNvSpPr/>
            <p:nvPr/>
          </p:nvSpPr>
          <p:spPr>
            <a:xfrm>
              <a:off x="304920" y="1650960"/>
              <a:ext cx="2662200" cy="482760"/>
            </a:xfrm>
            <a:prstGeom prst="parallelogram">
              <a:avLst>
                <a:gd name="adj" fmla="val 137864"/>
              </a:avLst>
            </a:prstGeom>
            <a:solidFill>
              <a:srgbClr val="f3f3f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4" name=""/>
            <p:cNvGrpSpPr/>
            <p:nvPr/>
          </p:nvGrpSpPr>
          <p:grpSpPr>
            <a:xfrm>
              <a:off x="914400" y="1727280"/>
              <a:ext cx="1219320" cy="304560"/>
              <a:chOff x="914400" y="1727280"/>
              <a:chExt cx="1219320" cy="304560"/>
            </a:xfrm>
          </p:grpSpPr>
          <p:sp>
            <p:nvSpPr>
              <p:cNvPr id="315" name=""/>
              <p:cNvSpPr/>
              <p:nvPr/>
            </p:nvSpPr>
            <p:spPr>
              <a:xfrm>
                <a:off x="1371600" y="1727280"/>
                <a:ext cx="762120" cy="152280"/>
              </a:xfrm>
              <a:prstGeom prst="flowChartTerminator">
                <a:avLst/>
              </a:prstGeom>
              <a:gradFill rotWithShape="0">
                <a:gsLst>
                  <a:gs pos="0">
                    <a:srgbClr val="750500"/>
                  </a:gs>
                  <a:gs pos="50000">
                    <a:srgbClr val="ff0b02"/>
                  </a:gs>
                  <a:gs pos="100000">
                    <a:srgbClr val="750500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914400" y="1727280"/>
                <a:ext cx="457200" cy="152280"/>
              </a:xfrm>
              <a:prstGeom prst="flowChartTerminator">
                <a:avLst/>
              </a:prstGeom>
              <a:gradFill rotWithShape="0">
                <a:gsLst>
                  <a:gs pos="0">
                    <a:srgbClr val="750500"/>
                  </a:gs>
                  <a:gs pos="50000">
                    <a:srgbClr val="ff0b02"/>
                  </a:gs>
                  <a:gs pos="100000">
                    <a:srgbClr val="750500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371600" y="1879560"/>
                <a:ext cx="762120" cy="152280"/>
              </a:xfrm>
              <a:prstGeom prst="flowChartTerminator">
                <a:avLst/>
              </a:prstGeom>
              <a:gradFill rotWithShape="0">
                <a:gsLst>
                  <a:gs pos="0">
                    <a:srgbClr val="750500"/>
                  </a:gs>
                  <a:gs pos="50000">
                    <a:srgbClr val="ff0b02"/>
                  </a:gs>
                  <a:gs pos="100000">
                    <a:srgbClr val="750500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914400" y="1879560"/>
                <a:ext cx="457200" cy="152280"/>
              </a:xfrm>
              <a:prstGeom prst="flowChartTerminator">
                <a:avLst/>
              </a:prstGeom>
              <a:gradFill rotWithShape="0">
                <a:gsLst>
                  <a:gs pos="0">
                    <a:srgbClr val="750500"/>
                  </a:gs>
                  <a:gs pos="50000">
                    <a:srgbClr val="ff0b02"/>
                  </a:gs>
                  <a:gs pos="100000">
                    <a:srgbClr val="750500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1295640" y="1765440"/>
                <a:ext cx="152280" cy="228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0" name=""/>
            <p:cNvSpPr/>
            <p:nvPr/>
          </p:nvSpPr>
          <p:spPr>
            <a:xfrm>
              <a:off x="1600200" y="1905120"/>
              <a:ext cx="152280" cy="15228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58120" y="990720"/>
              <a:ext cx="131760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cromosom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sul vetri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447920" y="1295280"/>
              <a:ext cx="45720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5334120" y="762120"/>
            <a:ext cx="3657600" cy="1675800"/>
            <a:chOff x="5334120" y="762120"/>
            <a:chExt cx="3657600" cy="1675800"/>
          </a:xfrm>
        </p:grpSpPr>
        <p:grpSp>
          <p:nvGrpSpPr>
            <p:cNvPr id="324" name=""/>
            <p:cNvGrpSpPr/>
            <p:nvPr/>
          </p:nvGrpSpPr>
          <p:grpSpPr>
            <a:xfrm>
              <a:off x="8229600" y="990720"/>
              <a:ext cx="457200" cy="1447200"/>
              <a:chOff x="8229600" y="990720"/>
              <a:chExt cx="457200" cy="1447200"/>
            </a:xfrm>
          </p:grpSpPr>
          <p:sp>
            <p:nvSpPr>
              <p:cNvPr id="325" name=""/>
              <p:cNvSpPr/>
              <p:nvPr/>
            </p:nvSpPr>
            <p:spPr>
              <a:xfrm rot="5400000">
                <a:off x="7753320" y="1580760"/>
                <a:ext cx="1409400" cy="304560"/>
              </a:xfrm>
              <a:prstGeom prst="flowChartDelay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8229600" y="990720"/>
                <a:ext cx="457200" cy="759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5400000">
                <a:off x="7962840" y="1790280"/>
                <a:ext cx="990360" cy="304560"/>
              </a:xfrm>
              <a:prstGeom prst="flowChartDelay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>
              <a:off x="5334120" y="762120"/>
              <a:ext cx="365760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sintesi di una sonda complementare marcata con un fluorocrom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621240" y="3673800"/>
            <a:ext cx="4551480" cy="1701720"/>
            <a:chOff x="3621240" y="3673800"/>
            <a:chExt cx="4551480" cy="1701720"/>
          </a:xfrm>
        </p:grpSpPr>
        <p:sp>
          <p:nvSpPr>
            <p:cNvPr id="330" name=""/>
            <p:cNvSpPr/>
            <p:nvPr/>
          </p:nvSpPr>
          <p:spPr>
            <a:xfrm>
              <a:off x="5456160" y="3733920"/>
              <a:ext cx="27165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ibridazione della sonda su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cromosomi denaturati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sul vetri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1" name=""/>
            <p:cNvGrpSpPr/>
            <p:nvPr/>
          </p:nvGrpSpPr>
          <p:grpSpPr>
            <a:xfrm>
              <a:off x="3621240" y="3673800"/>
              <a:ext cx="1885680" cy="1701720"/>
              <a:chOff x="3621240" y="3673800"/>
              <a:chExt cx="1885680" cy="1701720"/>
            </a:xfrm>
          </p:grpSpPr>
          <p:sp>
            <p:nvSpPr>
              <p:cNvPr id="332" name=""/>
              <p:cNvSpPr/>
              <p:nvPr/>
            </p:nvSpPr>
            <p:spPr>
              <a:xfrm>
                <a:off x="5181480" y="4038480"/>
                <a:ext cx="152640" cy="152640"/>
              </a:xfrm>
              <a:prstGeom prst="sun">
                <a:avLst>
                  <a:gd name="adj" fmla="val 25000"/>
                </a:avLst>
              </a:prstGeom>
              <a:solidFill>
                <a:srgbClr val="3bdc3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rot="1263600">
                <a:off x="3769920" y="4439880"/>
                <a:ext cx="152280" cy="152280"/>
              </a:xfrm>
              <a:prstGeom prst="sun">
                <a:avLst>
                  <a:gd name="adj" fmla="val 25000"/>
                </a:avLst>
              </a:prstGeom>
              <a:solidFill>
                <a:srgbClr val="3bdc3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rot="1263600">
                <a:off x="4557240" y="4114800"/>
                <a:ext cx="152640" cy="152280"/>
              </a:xfrm>
              <a:prstGeom prst="sun">
                <a:avLst>
                  <a:gd name="adj" fmla="val 25000"/>
                </a:avLst>
              </a:prstGeom>
              <a:solidFill>
                <a:srgbClr val="3bdc3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1263600">
                <a:off x="3824280" y="3876840"/>
                <a:ext cx="1371600" cy="1295280"/>
              </a:xfrm>
              <a:custGeom>
                <a:avLst/>
                <a:gdLst/>
                <a:ahLst/>
                <a:rect l="l" t="t" r="r" b="b"/>
                <a:pathLst>
                  <a:path w="432" h="432">
                    <a:moveTo>
                      <a:pt x="432" y="0"/>
                    </a:moveTo>
                    <a:cubicBezTo>
                      <a:pt x="356" y="28"/>
                      <a:pt x="280" y="56"/>
                      <a:pt x="240" y="96"/>
                    </a:cubicBezTo>
                    <a:cubicBezTo>
                      <a:pt x="200" y="136"/>
                      <a:pt x="224" y="208"/>
                      <a:pt x="192" y="240"/>
                    </a:cubicBezTo>
                    <a:cubicBezTo>
                      <a:pt x="160" y="272"/>
                      <a:pt x="80" y="256"/>
                      <a:pt x="48" y="288"/>
                    </a:cubicBezTo>
                    <a:cubicBezTo>
                      <a:pt x="16" y="320"/>
                      <a:pt x="8" y="416"/>
                      <a:pt x="0" y="432"/>
                    </a:cubicBez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1263600">
                <a:off x="3660840" y="4712400"/>
                <a:ext cx="295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1263600">
                <a:off x="3796920" y="459612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263600">
                <a:off x="3918240" y="45367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1263600">
                <a:off x="4070520" y="4542480"/>
                <a:ext cx="287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263600">
                <a:off x="4256640" y="450648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1263600">
                <a:off x="4374720" y="441036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263600">
                <a:off x="4479840" y="429192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1263600">
                <a:off x="4598640" y="421200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 rot="1264200">
                <a:off x="4751280" y="4131360"/>
                <a:ext cx="184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rot="1263600">
                <a:off x="4965840" y="4150800"/>
                <a:ext cx="277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1263600">
                <a:off x="5100840" y="415044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221080" y="410220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rot="18483000">
                <a:off x="4639320" y="4732920"/>
                <a:ext cx="838080" cy="211320"/>
              </a:xfrm>
              <a:prstGeom prst="leftArrow">
                <a:avLst>
                  <a:gd name="adj1" fmla="val 50000"/>
                  <a:gd name="adj2" fmla="val 99148"/>
                </a:avLst>
              </a:prstGeom>
              <a:gradFill rotWithShape="0">
                <a:gsLst>
                  <a:gs pos="0">
                    <a:srgbClr val="ffff02"/>
                  </a:gs>
                  <a:gs pos="50000">
                    <a:srgbClr val="ff0b02"/>
                  </a:gs>
                  <a:gs pos="100000">
                    <a:srgbClr val="ffff02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9" name=""/>
          <p:cNvGrpSpPr/>
          <p:nvPr/>
        </p:nvGrpSpPr>
        <p:grpSpPr>
          <a:xfrm>
            <a:off x="4952520" y="5126040"/>
            <a:ext cx="2959560" cy="907560"/>
            <a:chOff x="4952520" y="5126040"/>
            <a:chExt cx="2959560" cy="907560"/>
          </a:xfrm>
        </p:grpSpPr>
        <p:grpSp>
          <p:nvGrpSpPr>
            <p:cNvPr id="350" name=""/>
            <p:cNvGrpSpPr/>
            <p:nvPr/>
          </p:nvGrpSpPr>
          <p:grpSpPr>
            <a:xfrm>
              <a:off x="4952520" y="5126040"/>
              <a:ext cx="2959560" cy="907560"/>
              <a:chOff x="4952520" y="5126040"/>
              <a:chExt cx="2959560" cy="907560"/>
            </a:xfrm>
          </p:grpSpPr>
          <p:sp>
            <p:nvSpPr>
              <p:cNvPr id="351" name=""/>
              <p:cNvSpPr/>
              <p:nvPr/>
            </p:nvSpPr>
            <p:spPr>
              <a:xfrm>
                <a:off x="5486400" y="5265720"/>
                <a:ext cx="291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778360" y="5265720"/>
                <a:ext cx="1752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7454880" y="526572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854680" y="52657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006960" y="52657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159600" y="52657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311880" y="52657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464160" y="52657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616800" y="52657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769080" y="52657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921360" y="52657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074000" y="52657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226280" y="52657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378560" y="52657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531200" y="52657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H="1">
                <a:off x="5778000" y="5786280"/>
                <a:ext cx="1752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H="1">
                <a:off x="7454880" y="578628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V="1">
                <a:off x="5853240" y="563364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V="1">
                <a:off x="6005520" y="563364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V="1">
                <a:off x="6158160" y="563364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V="1">
                <a:off x="6310440" y="563364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V="1">
                <a:off x="6462720" y="563364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V="1">
                <a:off x="6615360" y="563364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V="1">
                <a:off x="6767640" y="563364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V="1">
                <a:off x="6919920" y="563364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V="1">
                <a:off x="7072560" y="563364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V="1">
                <a:off x="7224840" y="563364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V="1">
                <a:off x="7377120" y="563364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flipV="1">
                <a:off x="7529760" y="563364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707080" y="526572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865120" y="526572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021360" y="52657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172200" y="526572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324840" y="526572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489000" y="526572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6635520" y="526572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793920" y="526572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935760" y="52657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088040" y="52657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251120" y="526572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397640" y="526572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5725440" y="543240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871960" y="543060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018480" y="541800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158160" y="541800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311880" y="541800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481800" y="541800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639840" y="541800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786360" y="541800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932880" y="541800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7085160" y="541800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7243560" y="541800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7401960" y="541800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943600" y="5126040"/>
                <a:ext cx="152280" cy="152280"/>
              </a:xfrm>
              <a:prstGeom prst="sun">
                <a:avLst>
                  <a:gd name="adj" fmla="val 25000"/>
                </a:avLst>
              </a:prstGeom>
              <a:solidFill>
                <a:srgbClr val="3bdc3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553080" y="5126040"/>
                <a:ext cx="152640" cy="152280"/>
              </a:xfrm>
              <a:prstGeom prst="sun">
                <a:avLst>
                  <a:gd name="adj" fmla="val 25000"/>
                </a:avLst>
              </a:prstGeom>
              <a:solidFill>
                <a:srgbClr val="3bdc3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858000" y="5126040"/>
                <a:ext cx="152280" cy="152280"/>
              </a:xfrm>
              <a:prstGeom prst="sun">
                <a:avLst>
                  <a:gd name="adj" fmla="val 25000"/>
                </a:avLst>
              </a:prstGeom>
              <a:solidFill>
                <a:srgbClr val="3bdc3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7327800" y="5126040"/>
                <a:ext cx="152640" cy="152280"/>
              </a:xfrm>
              <a:prstGeom prst="sun">
                <a:avLst>
                  <a:gd name="adj" fmla="val 25000"/>
                </a:avLst>
              </a:prstGeom>
              <a:solidFill>
                <a:srgbClr val="3bdc3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rot="10786200">
                <a:off x="4952520" y="5811480"/>
                <a:ext cx="609840" cy="220680"/>
              </a:xfrm>
              <a:prstGeom prst="leftArrow">
                <a:avLst>
                  <a:gd name="adj1" fmla="val 50000"/>
                  <a:gd name="adj2" fmla="val 69086"/>
                </a:avLst>
              </a:prstGeom>
              <a:gradFill rotWithShape="0">
                <a:gsLst>
                  <a:gs pos="0">
                    <a:srgbClr val="ffff02"/>
                  </a:gs>
                  <a:gs pos="50000">
                    <a:srgbClr val="ff0b02"/>
                  </a:gs>
                  <a:gs pos="100000">
                    <a:srgbClr val="ffff02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9" name=""/>
            <p:cNvSpPr/>
            <p:nvPr/>
          </p:nvSpPr>
          <p:spPr>
            <a:xfrm flipH="1">
              <a:off x="5410080" y="577836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2666520" y="5397480"/>
            <a:ext cx="2667240" cy="615600"/>
            <a:chOff x="2666520" y="5397480"/>
            <a:chExt cx="2667240" cy="615600"/>
          </a:xfrm>
        </p:grpSpPr>
        <p:sp>
          <p:nvSpPr>
            <p:cNvPr id="411" name=""/>
            <p:cNvSpPr/>
            <p:nvPr/>
          </p:nvSpPr>
          <p:spPr>
            <a:xfrm flipH="1">
              <a:off x="5028840" y="57657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976280" y="5397480"/>
              <a:ext cx="26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3" name=""/>
            <p:cNvGrpSpPr/>
            <p:nvPr/>
          </p:nvGrpSpPr>
          <p:grpSpPr>
            <a:xfrm>
              <a:off x="2666520" y="5397480"/>
              <a:ext cx="2440440" cy="615600"/>
              <a:chOff x="2666520" y="5397480"/>
              <a:chExt cx="2440440" cy="615600"/>
            </a:xfrm>
          </p:grpSpPr>
          <p:sp>
            <p:nvSpPr>
              <p:cNvPr id="414" name=""/>
              <p:cNvSpPr/>
              <p:nvPr/>
            </p:nvSpPr>
            <p:spPr>
              <a:xfrm flipH="1">
                <a:off x="3123720" y="576576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H="1">
                <a:off x="3352320" y="5765760"/>
                <a:ext cx="1752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V="1">
                <a:off x="3427560" y="56131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V="1">
                <a:off x="3579840" y="56131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V="1">
                <a:off x="3732480" y="56131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V="1">
                <a:off x="3884760" y="56131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V="1">
                <a:off x="4037040" y="56131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V="1">
                <a:off x="4189680" y="56131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V="1">
                <a:off x="4341960" y="56131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V="1">
                <a:off x="4494240" y="56131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V="1">
                <a:off x="4646880" y="56131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V="1">
                <a:off x="4799160" y="56131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V="1">
                <a:off x="4951440" y="56131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V="1">
                <a:off x="5104080" y="56131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299760" y="541188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446280" y="541008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592800" y="539748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732480" y="539748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886200" y="539748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056120" y="539748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214160" y="539748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360680" y="539748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507200" y="539748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659480" y="539748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817880" y="539748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rot="10786200">
                <a:off x="2666520" y="5790960"/>
                <a:ext cx="609840" cy="220680"/>
              </a:xfrm>
              <a:prstGeom prst="leftArrow">
                <a:avLst>
                  <a:gd name="adj1" fmla="val 50000"/>
                  <a:gd name="adj2" fmla="val 69086"/>
                </a:avLst>
              </a:prstGeom>
              <a:gradFill rotWithShape="0">
                <a:gsLst>
                  <a:gs pos="0">
                    <a:srgbClr val="ffff02"/>
                  </a:gs>
                  <a:gs pos="50000">
                    <a:srgbClr val="ff0b02"/>
                  </a:gs>
                  <a:gs pos="100000">
                    <a:srgbClr val="ffff02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276360" y="68580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F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5638320" y="1600200"/>
            <a:ext cx="2743560" cy="685800"/>
            <a:chOff x="5638320" y="1600200"/>
            <a:chExt cx="2743560" cy="685800"/>
          </a:xfrm>
        </p:grpSpPr>
        <p:grpSp>
          <p:nvGrpSpPr>
            <p:cNvPr id="442" name=""/>
            <p:cNvGrpSpPr/>
            <p:nvPr/>
          </p:nvGrpSpPr>
          <p:grpSpPr>
            <a:xfrm>
              <a:off x="5638320" y="1600200"/>
              <a:ext cx="2743560" cy="685800"/>
              <a:chOff x="5638320" y="1600200"/>
              <a:chExt cx="2743560" cy="685800"/>
            </a:xfrm>
          </p:grpSpPr>
          <p:sp>
            <p:nvSpPr>
              <p:cNvPr id="443" name=""/>
              <p:cNvSpPr/>
              <p:nvPr/>
            </p:nvSpPr>
            <p:spPr>
              <a:xfrm>
                <a:off x="5638680" y="1752480"/>
                <a:ext cx="292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931000" y="1752480"/>
                <a:ext cx="1752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07160" y="175248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006960" y="1752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159600" y="1752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6311880" y="1752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464160" y="1752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6616800" y="1752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769080" y="1752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6921360" y="1752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7074000" y="1752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7226280" y="1752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378560" y="1752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7531200" y="1752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7683480" y="1752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H="1">
                <a:off x="5931000" y="2273400"/>
                <a:ext cx="1752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H="1">
                <a:off x="7607160" y="227340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V="1">
                <a:off x="6005520" y="2120760"/>
                <a:ext cx="28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V="1">
                <a:off x="6158160" y="2120760"/>
                <a:ext cx="28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V="1">
                <a:off x="6310440" y="2120760"/>
                <a:ext cx="28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V="1">
                <a:off x="6462720" y="2120760"/>
                <a:ext cx="28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V="1">
                <a:off x="6615360" y="2120760"/>
                <a:ext cx="28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V="1">
                <a:off x="6767640" y="2120760"/>
                <a:ext cx="28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V="1">
                <a:off x="6919920" y="2120760"/>
                <a:ext cx="28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7072560" y="2120760"/>
                <a:ext cx="28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flipV="1">
                <a:off x="7224840" y="2120760"/>
                <a:ext cx="28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V="1">
                <a:off x="7377120" y="2120760"/>
                <a:ext cx="28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7529760" y="2120760"/>
                <a:ext cx="28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flipV="1">
                <a:off x="7682040" y="2120760"/>
                <a:ext cx="28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859360" y="175248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017400" y="175248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173640" y="175248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324840" y="175248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477120" y="175248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6641280" y="175248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788160" y="175248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6946200" y="175248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088040" y="175248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7240320" y="175248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403400" y="175248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7549920" y="175248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877720" y="191916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6024600" y="191772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170760" y="190512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310440" y="190512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464160" y="190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634080" y="190512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792120" y="190512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939000" y="190512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085160" y="190512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7237440" y="190512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7396200" y="190512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7554240" y="190512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095880" y="1600200"/>
                <a:ext cx="152640" cy="152280"/>
              </a:xfrm>
              <a:prstGeom prst="sun">
                <a:avLst>
                  <a:gd name="adj" fmla="val 25000"/>
                </a:avLst>
              </a:prstGeom>
              <a:solidFill>
                <a:srgbClr val="3bdc3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6705720" y="1600200"/>
                <a:ext cx="152280" cy="152280"/>
              </a:xfrm>
              <a:prstGeom prst="sun">
                <a:avLst>
                  <a:gd name="adj" fmla="val 25000"/>
                </a:avLst>
              </a:prstGeom>
              <a:solidFill>
                <a:srgbClr val="3bdc3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010280" y="1600200"/>
                <a:ext cx="152640" cy="152280"/>
              </a:xfrm>
              <a:prstGeom prst="sun">
                <a:avLst>
                  <a:gd name="adj" fmla="val 25000"/>
                </a:avLst>
              </a:prstGeom>
              <a:solidFill>
                <a:srgbClr val="3bdc3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7480440" y="1600200"/>
                <a:ext cx="152280" cy="152280"/>
              </a:xfrm>
              <a:prstGeom prst="sun">
                <a:avLst>
                  <a:gd name="adj" fmla="val 25000"/>
                </a:avLst>
              </a:prstGeom>
              <a:solidFill>
                <a:srgbClr val="3bdc3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flipH="1">
                <a:off x="5638320" y="2286000"/>
                <a:ext cx="381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H="1">
                <a:off x="8077320" y="1981080"/>
                <a:ext cx="30456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flipH="1" flipV="1">
                <a:off x="8001000" y="1676160"/>
                <a:ext cx="38088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3" name=""/>
            <p:cNvSpPr/>
            <p:nvPr/>
          </p:nvSpPr>
          <p:spPr>
            <a:xfrm>
              <a:off x="8305920" y="1905120"/>
              <a:ext cx="75960" cy="75960"/>
            </a:xfrm>
            <a:prstGeom prst="flowChartConnector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4321800" y="1676520"/>
            <a:ext cx="2917080" cy="2025360"/>
            <a:chOff x="4321800" y="1676520"/>
            <a:chExt cx="2917080" cy="2025360"/>
          </a:xfrm>
        </p:grpSpPr>
        <p:grpSp>
          <p:nvGrpSpPr>
            <p:cNvPr id="505" name=""/>
            <p:cNvGrpSpPr/>
            <p:nvPr/>
          </p:nvGrpSpPr>
          <p:grpSpPr>
            <a:xfrm>
              <a:off x="4321800" y="1676520"/>
              <a:ext cx="2917080" cy="1904760"/>
              <a:chOff x="4321800" y="1676520"/>
              <a:chExt cx="2917080" cy="1904760"/>
            </a:xfrm>
          </p:grpSpPr>
          <p:sp>
            <p:nvSpPr>
              <p:cNvPr id="506" name=""/>
              <p:cNvSpPr/>
              <p:nvPr/>
            </p:nvSpPr>
            <p:spPr>
              <a:xfrm>
                <a:off x="4813200" y="2895480"/>
                <a:ext cx="292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105520" y="2895480"/>
                <a:ext cx="1752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6781680" y="289548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5181480" y="2895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334120" y="2895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486400" y="2895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638680" y="2895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5791320" y="2895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5943600" y="2895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6095880" y="2895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248520" y="2895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6400800" y="2895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553080" y="2895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705720" y="2895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858000" y="2895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flipH="1">
                <a:off x="5105520" y="3568680"/>
                <a:ext cx="1752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H="1">
                <a:off x="6781680" y="356868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V="1">
                <a:off x="5180040" y="341604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V="1">
                <a:off x="5332680" y="341604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V="1">
                <a:off x="5484960" y="341604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5637240" y="341604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V="1">
                <a:off x="5789880" y="341604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V="1">
                <a:off x="5942160" y="341604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V="1">
                <a:off x="6094440" y="341604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6247080" y="341604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6399360" y="341604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V="1">
                <a:off x="6551640" y="341604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V="1">
                <a:off x="6704280" y="341604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6856560" y="341604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033880" y="289548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191920" y="289548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348160" y="289548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499360" y="289548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651640" y="289548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815800" y="289548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5962680" y="289548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6120720" y="289548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6262560" y="289548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6414840" y="289548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6577920" y="289548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724440" y="289548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5052240" y="321480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199120" y="321300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5345280" y="320040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484960" y="320040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5638680" y="320040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5808600" y="320040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5966640" y="320040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6113520" y="320040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259680" y="320040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6411960" y="320040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6570720" y="320040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6728760" y="320040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270400" y="2743200"/>
                <a:ext cx="152640" cy="152280"/>
              </a:xfrm>
              <a:prstGeom prst="sun">
                <a:avLst>
                  <a:gd name="adj" fmla="val 25000"/>
                </a:avLst>
              </a:prstGeom>
              <a:solidFill>
                <a:srgbClr val="3bdc3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880240" y="2743200"/>
                <a:ext cx="152280" cy="152280"/>
              </a:xfrm>
              <a:prstGeom prst="sun">
                <a:avLst>
                  <a:gd name="adj" fmla="val 25000"/>
                </a:avLst>
              </a:prstGeom>
              <a:solidFill>
                <a:srgbClr val="3bdc3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184800" y="2743200"/>
                <a:ext cx="152640" cy="152280"/>
              </a:xfrm>
              <a:prstGeom prst="sun">
                <a:avLst>
                  <a:gd name="adj" fmla="val 25000"/>
                </a:avLst>
              </a:prstGeom>
              <a:solidFill>
                <a:srgbClr val="3bdc3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654960" y="2743200"/>
                <a:ext cx="152280" cy="152280"/>
              </a:xfrm>
              <a:prstGeom prst="sun">
                <a:avLst>
                  <a:gd name="adj" fmla="val 25000"/>
                </a:avLst>
              </a:prstGeom>
              <a:solidFill>
                <a:srgbClr val="3bdc3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H="1">
                <a:off x="4812840" y="3581280"/>
                <a:ext cx="381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rot="17268000">
                <a:off x="5215320" y="2175480"/>
                <a:ext cx="609840" cy="220680"/>
              </a:xfrm>
              <a:prstGeom prst="leftArrow">
                <a:avLst>
                  <a:gd name="adj1" fmla="val 50000"/>
                  <a:gd name="adj2" fmla="val 69086"/>
                </a:avLst>
              </a:prstGeom>
              <a:gradFill rotWithShape="0">
                <a:gsLst>
                  <a:gs pos="0">
                    <a:srgbClr val="ffff02"/>
                  </a:gs>
                  <a:gs pos="50000">
                    <a:srgbClr val="ff0b02"/>
                  </a:gs>
                  <a:gs pos="100000">
                    <a:srgbClr val="ffff02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4321800" y="1676520"/>
                <a:ext cx="156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denaturazion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6" name=""/>
            <p:cNvSpPr/>
            <p:nvPr/>
          </p:nvSpPr>
          <p:spPr>
            <a:xfrm>
              <a:off x="5105520" y="3537000"/>
              <a:ext cx="152280" cy="152280"/>
            </a:xfrm>
            <a:prstGeom prst="sun">
              <a:avLst>
                <a:gd name="adj" fmla="val 25000"/>
              </a:avLst>
            </a:prstGeom>
            <a:solidFill>
              <a:srgbClr val="3bdc3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019920" y="3543480"/>
              <a:ext cx="152280" cy="152280"/>
            </a:xfrm>
            <a:prstGeom prst="sun">
              <a:avLst>
                <a:gd name="adj" fmla="val 25000"/>
              </a:avLst>
            </a:prstGeom>
            <a:solidFill>
              <a:srgbClr val="3bdc3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762600" y="3549600"/>
              <a:ext cx="152640" cy="152280"/>
            </a:xfrm>
            <a:prstGeom prst="sun">
              <a:avLst>
                <a:gd name="adj" fmla="val 25000"/>
              </a:avLst>
            </a:prstGeom>
            <a:solidFill>
              <a:srgbClr val="3bdc3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6959520" y="4788000"/>
            <a:ext cx="1828800" cy="711000"/>
          </a:xfrm>
          <a:prstGeom prst="flowChartOffpageConnector">
            <a:avLst/>
          </a:prstGeom>
          <a:solidFill>
            <a:srgbClr val="fafafa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416720" y="2286000"/>
            <a:ext cx="1562040" cy="609480"/>
          </a:xfrm>
          <a:prstGeom prst="flowChartMultidocument">
            <a:avLst/>
          </a:prstGeom>
          <a:solidFill>
            <a:srgbClr val="eeeeee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530520" y="1854360"/>
            <a:ext cx="533520" cy="380880"/>
          </a:xfrm>
          <a:prstGeom prst="leftArrowCallout">
            <a:avLst>
              <a:gd name="adj1" fmla="val 25002"/>
              <a:gd name="adj2" fmla="val 25000"/>
              <a:gd name="adj3" fmla="val 23346"/>
              <a:gd name="adj4" fmla="val 66673"/>
            </a:avLst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4305240" y="2171880"/>
            <a:ext cx="457200" cy="2996640"/>
            <a:chOff x="4305240" y="2171880"/>
            <a:chExt cx="457200" cy="2996640"/>
          </a:xfrm>
        </p:grpSpPr>
        <p:sp>
          <p:nvSpPr>
            <p:cNvPr id="573" name=""/>
            <p:cNvSpPr/>
            <p:nvPr/>
          </p:nvSpPr>
          <p:spPr>
            <a:xfrm>
              <a:off x="4305240" y="2171880"/>
              <a:ext cx="127080" cy="2996640"/>
            </a:xfrm>
            <a:prstGeom prst="upArrow">
              <a:avLst>
                <a:gd name="adj1" fmla="val 50000"/>
                <a:gd name="adj2" fmla="val 589518"/>
              </a:avLst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635360" y="2171880"/>
              <a:ext cx="127080" cy="2996640"/>
            </a:xfrm>
            <a:prstGeom prst="upArrow">
              <a:avLst>
                <a:gd name="adj1" fmla="val 50000"/>
                <a:gd name="adj2" fmla="val 589518"/>
              </a:avLst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75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576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762120" y="6094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79" name=""/>
          <p:cNvSpPr/>
          <p:nvPr/>
        </p:nvSpPr>
        <p:spPr>
          <a:xfrm>
            <a:off x="113400" y="6437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7294680" y="3517920"/>
            <a:ext cx="1238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buClr>
                <a:srgbClr val="000000"/>
              </a:buClr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390840" y="2730600"/>
            <a:ext cx="1981440" cy="4064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ltro di emiss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rot="2700000">
            <a:off x="3517920" y="3682440"/>
            <a:ext cx="184140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eeeee"/>
              </a:gs>
              <a:gs pos="100000">
                <a:srgbClr val="fafa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pecchio dicro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rot="5400000">
            <a:off x="2221920" y="4203360"/>
            <a:ext cx="2082960" cy="38124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ltro di eccit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784040" y="5378400"/>
            <a:ext cx="166500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biettivo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densat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387520" y="6172200"/>
            <a:ext cx="2806920" cy="317520"/>
          </a:xfrm>
          <a:prstGeom prst="parallelogram">
            <a:avLst>
              <a:gd name="adj" fmla="val 22100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124080" y="6172200"/>
            <a:ext cx="2806920" cy="317520"/>
          </a:xfrm>
          <a:prstGeom prst="parallelogram">
            <a:avLst>
              <a:gd name="adj" fmla="val 221003"/>
            </a:avLst>
          </a:prstGeom>
          <a:solidFill>
            <a:srgbClr val="eeee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4152960" y="6273720"/>
            <a:ext cx="584280" cy="131760"/>
            <a:chOff x="4152960" y="6273720"/>
            <a:chExt cx="584280" cy="131760"/>
          </a:xfrm>
        </p:grpSpPr>
        <p:sp>
          <p:nvSpPr>
            <p:cNvPr id="588" name=""/>
            <p:cNvSpPr/>
            <p:nvPr/>
          </p:nvSpPr>
          <p:spPr>
            <a:xfrm>
              <a:off x="4152960" y="6273720"/>
              <a:ext cx="279360" cy="4284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305240" y="6362640"/>
              <a:ext cx="279360" cy="4284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7880" y="6273720"/>
              <a:ext cx="279360" cy="4284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2019240" y="4057560"/>
            <a:ext cx="863640" cy="540000"/>
          </a:xfrm>
          <a:prstGeom prst="rightArrowCallout">
            <a:avLst>
              <a:gd name="adj1" fmla="val 25002"/>
              <a:gd name="adj2" fmla="val 25000"/>
              <a:gd name="adj3" fmla="val 26656"/>
              <a:gd name="adj4" fmla="val 66667"/>
            </a:avLst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557600" y="6064200"/>
            <a:ext cx="77760" cy="163440"/>
          </a:xfrm>
          <a:prstGeom prst="downArrow">
            <a:avLst>
              <a:gd name="adj1" fmla="val 50000"/>
              <a:gd name="adj2" fmla="val 5254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rot="5400000">
            <a:off x="812520" y="3720960"/>
            <a:ext cx="1181160" cy="1193760"/>
          </a:xfrm>
          <a:custGeom>
            <a:avLst/>
            <a:gdLst>
              <a:gd name="textAreaLeft" fmla="*/ 259560 w 1181160"/>
              <a:gd name="textAreaRight" fmla="*/ 921600 w 1181160"/>
              <a:gd name="textAreaTop" fmla="*/ 262440 h 1193760"/>
              <a:gd name="textAreaBottom" fmla="*/ 931320 h 1193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927000" y="3949560"/>
            <a:ext cx="1346400" cy="749520"/>
          </a:xfrm>
          <a:custGeom>
            <a:avLst/>
            <a:gdLst>
              <a:gd name="textAreaLeft" fmla="*/ 307440 w 1346400"/>
              <a:gd name="textAreaRight" fmla="*/ 1038960 w 1346400"/>
              <a:gd name="textAreaTop" fmla="*/ 171000 h 749520"/>
              <a:gd name="textAreaBottom" fmla="*/ 578520 h 749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089240" y="5175360"/>
            <a:ext cx="749520" cy="863640"/>
          </a:xfrm>
          <a:prstGeom prst="flowChartOffpageConnector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349880" y="5987880"/>
            <a:ext cx="234720" cy="763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rot="10800000">
            <a:off x="4449240" y="6082920"/>
            <a:ext cx="96840" cy="157320"/>
          </a:xfrm>
          <a:prstGeom prst="downArrow">
            <a:avLst>
              <a:gd name="adj1" fmla="val 50000"/>
              <a:gd name="adj2" fmla="val 40613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rot="10800000">
            <a:off x="4373280" y="6089760"/>
            <a:ext cx="96840" cy="156960"/>
          </a:xfrm>
          <a:prstGeom prst="downArrow">
            <a:avLst>
              <a:gd name="adj1" fmla="val 50000"/>
              <a:gd name="adj2" fmla="val 40520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272120" y="6070680"/>
            <a:ext cx="77760" cy="163440"/>
          </a:xfrm>
          <a:prstGeom prst="downArrow">
            <a:avLst>
              <a:gd name="adj1" fmla="val 50000"/>
              <a:gd name="adj2" fmla="val 5254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146480" y="4019400"/>
            <a:ext cx="139680" cy="1136880"/>
          </a:xfrm>
          <a:prstGeom prst="downArrow">
            <a:avLst>
              <a:gd name="adj1" fmla="val 50000"/>
              <a:gd name="adj2" fmla="val 203479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502160" y="4336920"/>
            <a:ext cx="146160" cy="838440"/>
          </a:xfrm>
          <a:prstGeom prst="downArrow">
            <a:avLst>
              <a:gd name="adj1" fmla="val 50000"/>
              <a:gd name="adj2" fmla="val 143411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448080" y="4292640"/>
            <a:ext cx="1168200" cy="101520"/>
          </a:xfrm>
          <a:prstGeom prst="rightArrow">
            <a:avLst>
              <a:gd name="adj1" fmla="val 50000"/>
              <a:gd name="adj2" fmla="val 287677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473280" y="3962520"/>
            <a:ext cx="793800" cy="114120"/>
          </a:xfrm>
          <a:prstGeom prst="rightArrow">
            <a:avLst>
              <a:gd name="adj1" fmla="val 50000"/>
              <a:gd name="adj2" fmla="val 173896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rot="10800000">
            <a:off x="4417560" y="6229440"/>
            <a:ext cx="96840" cy="156960"/>
          </a:xfrm>
          <a:prstGeom prst="downArrow">
            <a:avLst>
              <a:gd name="adj1" fmla="val 50000"/>
              <a:gd name="adj2" fmla="val 40520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064040" y="1727280"/>
            <a:ext cx="851040" cy="49536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eeeeee"/>
              </a:gs>
              <a:gs pos="50000">
                <a:srgbClr val="808080"/>
              </a:gs>
              <a:gs pos="100000">
                <a:srgbClr val="eeeee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788000" y="1854360"/>
            <a:ext cx="558720" cy="380880"/>
          </a:xfrm>
          <a:prstGeom prst="rightArrowCallout">
            <a:avLst>
              <a:gd name="adj1" fmla="val 25002"/>
              <a:gd name="adj2" fmla="val 25000"/>
              <a:gd name="adj3" fmla="val 24449"/>
              <a:gd name="adj4" fmla="val 66667"/>
            </a:avLst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rot="2920200">
            <a:off x="4751280" y="3157200"/>
            <a:ext cx="2940120" cy="425520"/>
          </a:xfrm>
          <a:custGeom>
            <a:avLst/>
            <a:gdLst>
              <a:gd name="textAreaLeft" fmla="*/ 459360 w 2940120"/>
              <a:gd name="textAreaRight" fmla="*/ 2572560 w 2940120"/>
              <a:gd name="textAreaTop" fmla="*/ 106200 h 425520"/>
              <a:gd name="textAreaBottom" fmla="*/ 319320 h 425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788080" y="2579760"/>
            <a:ext cx="131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ebdings" charset="2"/>
              <a:buChar char="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342040" y="1712880"/>
            <a:ext cx="2141280" cy="380880"/>
          </a:xfrm>
          <a:custGeom>
            <a:avLst/>
            <a:gdLst>
              <a:gd name="textAreaLeft" fmla="*/ 334440 w 2141280"/>
              <a:gd name="textAreaRight" fmla="*/ 1873800 w 2141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559480" y="1039680"/>
            <a:ext cx="131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ebdings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4"/>
          <a:stretch/>
        </p:blipFill>
        <p:spPr>
          <a:xfrm>
            <a:off x="7721640" y="134604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612" name="" descr=""/>
          <p:cNvPicPr/>
          <p:nvPr/>
        </p:nvPicPr>
        <p:blipFill>
          <a:blip r:embed="rId5"/>
          <a:stretch/>
        </p:blipFill>
        <p:spPr>
          <a:xfrm>
            <a:off x="7632720" y="3860640"/>
            <a:ext cx="660240" cy="444600"/>
          </a:xfrm>
          <a:prstGeom prst="rect">
            <a:avLst/>
          </a:prstGeom>
          <a:ln w="0">
            <a:noFill/>
          </a:ln>
        </p:spPr>
      </p:pic>
      <p:sp>
        <p:nvSpPr>
          <p:cNvPr id="613" name=""/>
          <p:cNvSpPr/>
          <p:nvPr/>
        </p:nvSpPr>
        <p:spPr>
          <a:xfrm>
            <a:off x="7517880" y="2394000"/>
            <a:ext cx="133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tograf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681880" y="2676600"/>
            <a:ext cx="135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CD came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rot="17283600">
            <a:off x="2959200" y="1663200"/>
            <a:ext cx="350640" cy="392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cbcbcb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rot="17283600">
            <a:off x="2959200" y="1891800"/>
            <a:ext cx="350640" cy="392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cbcbcb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77000" y="3205080"/>
            <a:ext cx="2102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mpada a vapo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 mercu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990840" y="4794120"/>
            <a:ext cx="182052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aborazione 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mp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787320" y="723600"/>
            <a:ext cx="777240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602"/>
                </a:solidFill>
                <a:latin typeface="Comic Sans MS"/>
              </a:rPr>
              <a:t>FISH : microscopio a fluorescen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953640" y="1352520"/>
            <a:ext cx="2122920" cy="825120"/>
            <a:chOff x="953640" y="1352520"/>
            <a:chExt cx="2122920" cy="825120"/>
          </a:xfrm>
        </p:grpSpPr>
        <p:sp>
          <p:nvSpPr>
            <p:cNvPr id="621" name=""/>
            <p:cNvSpPr/>
            <p:nvPr/>
          </p:nvSpPr>
          <p:spPr>
            <a:xfrm>
              <a:off x="953640" y="1352520"/>
              <a:ext cx="561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ebdings" charset="2"/>
                <a:buChar char="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336680" y="1655640"/>
              <a:ext cx="173988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Osservazio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l microscop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" descr=""/>
          <p:cNvPicPr/>
          <p:nvPr/>
        </p:nvPicPr>
        <p:blipFill>
          <a:blip r:embed="rId1"/>
          <a:stretch/>
        </p:blipFill>
        <p:spPr>
          <a:xfrm>
            <a:off x="2886120" y="1371600"/>
            <a:ext cx="5419800" cy="5418000"/>
          </a:xfrm>
          <a:prstGeom prst="rect">
            <a:avLst/>
          </a:prstGeom>
          <a:ln w="0">
            <a:noFill/>
          </a:ln>
        </p:spPr>
      </p:pic>
      <p:sp>
        <p:nvSpPr>
          <p:cNvPr id="624" name=""/>
          <p:cNvSpPr/>
          <p:nvPr/>
        </p:nvSpPr>
        <p:spPr>
          <a:xfrm>
            <a:off x="259200" y="2514600"/>
            <a:ext cx="2515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romosom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. denatura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 colorati con D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5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626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62120" y="6094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29" name=""/>
          <p:cNvSpPr/>
          <p:nvPr/>
        </p:nvSpPr>
        <p:spPr>
          <a:xfrm>
            <a:off x="113400" y="6437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2209680" y="685800"/>
            <a:ext cx="4724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FISH: metafase in DA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" descr=""/>
          <p:cNvPicPr/>
          <p:nvPr/>
        </p:nvPicPr>
        <p:blipFill>
          <a:blip r:embed="rId1"/>
          <a:stretch/>
        </p:blipFill>
        <p:spPr>
          <a:xfrm>
            <a:off x="1835280" y="1433520"/>
            <a:ext cx="5348160" cy="5348160"/>
          </a:xfrm>
          <a:prstGeom prst="rect">
            <a:avLst/>
          </a:prstGeom>
          <a:ln w="0">
            <a:noFill/>
          </a:ln>
        </p:spPr>
      </p:pic>
      <p:pic>
        <p:nvPicPr>
          <p:cNvPr id="632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633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762120" y="6094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36" name=""/>
          <p:cNvSpPr/>
          <p:nvPr/>
        </p:nvSpPr>
        <p:spPr>
          <a:xfrm>
            <a:off x="113400" y="6437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123720" y="685440"/>
            <a:ext cx="2590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FISH: segnal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" descr=""/>
          <p:cNvPicPr/>
          <p:nvPr/>
        </p:nvPicPr>
        <p:blipFill>
          <a:blip r:embed="rId1"/>
          <a:stretch/>
        </p:blipFill>
        <p:spPr>
          <a:xfrm>
            <a:off x="2352600" y="1362240"/>
            <a:ext cx="5419800" cy="541944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62120" y="6094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43" name=""/>
          <p:cNvSpPr/>
          <p:nvPr/>
        </p:nvSpPr>
        <p:spPr>
          <a:xfrm>
            <a:off x="113400" y="6437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580920" y="761760"/>
            <a:ext cx="2514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FISH: me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171000" y="1328760"/>
            <a:ext cx="57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) Allestimento della coltura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61640" y="2422440"/>
            <a:ext cx="519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) Preparazione dei vetri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52280" y="35323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) Colorazione del preparato con colorazioni differenziali di rout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52280" y="5099040"/>
            <a:ext cx="9068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) Osservazione al microscopio, selezione delle metafasi e acquisizione delle immagi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9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650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762120" y="6094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53" name=""/>
          <p:cNvSpPr/>
          <p:nvPr/>
        </p:nvSpPr>
        <p:spPr>
          <a:xfrm>
            <a:off x="113400" y="6437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361960" y="68580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Analisi del carioti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5" name=""/>
          <p:cNvGrpSpPr/>
          <p:nvPr/>
        </p:nvGrpSpPr>
        <p:grpSpPr>
          <a:xfrm>
            <a:off x="3513240" y="2341440"/>
            <a:ext cx="361800" cy="1753920"/>
            <a:chOff x="3513240" y="2341440"/>
            <a:chExt cx="361800" cy="1753920"/>
          </a:xfrm>
        </p:grpSpPr>
        <p:sp>
          <p:nvSpPr>
            <p:cNvPr id="656" name=""/>
            <p:cNvSpPr/>
            <p:nvPr/>
          </p:nvSpPr>
          <p:spPr>
            <a:xfrm>
              <a:off x="3556080" y="2342880"/>
              <a:ext cx="298440" cy="1752480"/>
            </a:xfrm>
            <a:prstGeom prst="can">
              <a:avLst>
                <a:gd name="adj" fmla="val 1449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556080" y="2463480"/>
              <a:ext cx="298440" cy="292320"/>
            </a:xfrm>
            <a:prstGeom prst="can">
              <a:avLst>
                <a:gd name="adj" fmla="val 14490"/>
              </a:avLst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513240" y="2341440"/>
              <a:ext cx="361800" cy="169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5494320" y="2290680"/>
            <a:ext cx="361800" cy="1753920"/>
            <a:chOff x="5494320" y="2290680"/>
            <a:chExt cx="361800" cy="1753920"/>
          </a:xfrm>
        </p:grpSpPr>
        <p:sp>
          <p:nvSpPr>
            <p:cNvPr id="660" name=""/>
            <p:cNvSpPr/>
            <p:nvPr/>
          </p:nvSpPr>
          <p:spPr>
            <a:xfrm>
              <a:off x="5537160" y="2292120"/>
              <a:ext cx="298440" cy="1752480"/>
            </a:xfrm>
            <a:prstGeom prst="can">
              <a:avLst>
                <a:gd name="adj" fmla="val 1449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537160" y="2387520"/>
              <a:ext cx="298440" cy="1428480"/>
            </a:xfrm>
            <a:prstGeom prst="can">
              <a:avLst>
                <a:gd name="adj" fmla="val 5810"/>
              </a:avLst>
            </a:prstGeom>
            <a:solidFill>
              <a:srgbClr val="ffd1d1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494320" y="2290680"/>
              <a:ext cx="361800" cy="169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8369280" y="2252520"/>
            <a:ext cx="361800" cy="1754280"/>
            <a:chOff x="8369280" y="2252520"/>
            <a:chExt cx="361800" cy="1754280"/>
          </a:xfrm>
        </p:grpSpPr>
        <p:sp>
          <p:nvSpPr>
            <p:cNvPr id="664" name=""/>
            <p:cNvSpPr/>
            <p:nvPr/>
          </p:nvSpPr>
          <p:spPr>
            <a:xfrm>
              <a:off x="8412120" y="2253960"/>
              <a:ext cx="298440" cy="1752840"/>
            </a:xfrm>
            <a:prstGeom prst="can">
              <a:avLst>
                <a:gd name="adj" fmla="val 14490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8412120" y="2349360"/>
              <a:ext cx="298440" cy="1428840"/>
            </a:xfrm>
            <a:prstGeom prst="can">
              <a:avLst>
                <a:gd name="adj" fmla="val 5810"/>
              </a:avLst>
            </a:prstGeom>
            <a:solidFill>
              <a:srgbClr val="ff6b68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8369280" y="2252520"/>
              <a:ext cx="361800" cy="169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79200" y="4597560"/>
            <a:ext cx="361800" cy="1753920"/>
            <a:chOff x="79200" y="4597560"/>
            <a:chExt cx="361800" cy="1753920"/>
          </a:xfrm>
        </p:grpSpPr>
        <p:sp>
          <p:nvSpPr>
            <p:cNvPr id="668" name=""/>
            <p:cNvSpPr/>
            <p:nvPr/>
          </p:nvSpPr>
          <p:spPr>
            <a:xfrm>
              <a:off x="122040" y="4599000"/>
              <a:ext cx="298440" cy="1752480"/>
            </a:xfrm>
            <a:prstGeom prst="can">
              <a:avLst>
                <a:gd name="adj" fmla="val 14490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22040" y="4694400"/>
              <a:ext cx="298440" cy="1428480"/>
            </a:xfrm>
            <a:prstGeom prst="can">
              <a:avLst>
                <a:gd name="adj" fmla="val 5810"/>
              </a:avLst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9200" y="4597560"/>
              <a:ext cx="361800" cy="169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6146640" y="4440960"/>
            <a:ext cx="2933640" cy="1629360"/>
            <a:chOff x="6146640" y="4440960"/>
            <a:chExt cx="2933640" cy="1629360"/>
          </a:xfrm>
        </p:grpSpPr>
        <p:sp>
          <p:nvSpPr>
            <p:cNvPr id="672" name=""/>
            <p:cNvSpPr/>
            <p:nvPr/>
          </p:nvSpPr>
          <p:spPr>
            <a:xfrm>
              <a:off x="6667200" y="5752800"/>
              <a:ext cx="2413080" cy="317520"/>
            </a:xfrm>
            <a:prstGeom prst="parallelogram">
              <a:avLst>
                <a:gd name="adj" fmla="val 189994"/>
              </a:avLst>
            </a:prstGeom>
            <a:solidFill>
              <a:srgbClr val="ffffff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146640" y="5752800"/>
              <a:ext cx="2413080" cy="317520"/>
            </a:xfrm>
            <a:prstGeom prst="parallelogram">
              <a:avLst>
                <a:gd name="adj" fmla="val 189994"/>
              </a:avLst>
            </a:prstGeom>
            <a:solidFill>
              <a:srgbClr val="f0f0f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H="1" rot="1638000">
              <a:off x="8387640" y="4722120"/>
              <a:ext cx="82440" cy="774720"/>
            </a:xfrm>
            <a:prstGeom prst="can">
              <a:avLst>
                <a:gd name="adj" fmla="val 3384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rot="1637400">
              <a:off x="8569080" y="4460400"/>
              <a:ext cx="177840" cy="37908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rot="1637400">
              <a:off x="8486280" y="4807800"/>
              <a:ext cx="82440" cy="236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013600" y="5499000"/>
              <a:ext cx="63360" cy="7596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8204040" y="5486040"/>
              <a:ext cx="63360" cy="7632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127720" y="5600520"/>
              <a:ext cx="63720" cy="75960"/>
            </a:xfrm>
            <a:prstGeom prst="ellips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924680" y="5549760"/>
              <a:ext cx="63360" cy="75960"/>
            </a:xfrm>
            <a:prstGeom prst="ellipse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8076960" y="5752800"/>
              <a:ext cx="63720" cy="76320"/>
            </a:xfrm>
            <a:prstGeom prst="ellipse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962840" y="5625720"/>
              <a:ext cx="63360" cy="76320"/>
            </a:xfrm>
            <a:prstGeom prst="ellipse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848360" y="5905080"/>
              <a:ext cx="63720" cy="76320"/>
            </a:xfrm>
            <a:prstGeom prst="ellipse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441920" y="5829120"/>
              <a:ext cx="63720" cy="75960"/>
            </a:xfrm>
            <a:prstGeom prst="ellipse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365960" y="5879880"/>
              <a:ext cx="63360" cy="76320"/>
            </a:xfrm>
            <a:prstGeom prst="ellipse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657920" y="5829120"/>
              <a:ext cx="63360" cy="75960"/>
            </a:xfrm>
            <a:prstGeom prst="ellipse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8032680" y="5581440"/>
              <a:ext cx="63360" cy="75960"/>
            </a:xfrm>
            <a:prstGeom prst="ellipse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785000" y="5790960"/>
              <a:ext cx="63360" cy="76320"/>
            </a:xfrm>
            <a:prstGeom prst="ellipse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924680" y="5790960"/>
              <a:ext cx="63360" cy="76320"/>
            </a:xfrm>
            <a:prstGeom prst="ellipse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626240" y="5924160"/>
              <a:ext cx="63360" cy="76320"/>
            </a:xfrm>
            <a:prstGeom prst="ellipse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219800" y="5848200"/>
              <a:ext cx="63360" cy="75960"/>
            </a:xfrm>
            <a:prstGeom prst="ellipse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143480" y="5898960"/>
              <a:ext cx="63720" cy="75960"/>
            </a:xfrm>
            <a:prstGeom prst="ellipse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435800" y="5848200"/>
              <a:ext cx="63360" cy="75960"/>
            </a:xfrm>
            <a:prstGeom prst="ellipse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562520" y="5810040"/>
              <a:ext cx="63720" cy="75960"/>
            </a:xfrm>
            <a:prstGeom prst="ellipse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702560" y="5810040"/>
              <a:ext cx="63360" cy="75960"/>
            </a:xfrm>
            <a:prstGeom prst="ellipse">
              <a:avLst/>
            </a:prstGeom>
            <a:blipFill rotWithShape="0">
              <a:blip r:embed="rId2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127080" y="1968480"/>
            <a:ext cx="1842840" cy="2203200"/>
            <a:chOff x="127080" y="1968480"/>
            <a:chExt cx="1842840" cy="2203200"/>
          </a:xfrm>
        </p:grpSpPr>
        <p:grpSp>
          <p:nvGrpSpPr>
            <p:cNvPr id="697" name=""/>
            <p:cNvGrpSpPr/>
            <p:nvPr/>
          </p:nvGrpSpPr>
          <p:grpSpPr>
            <a:xfrm>
              <a:off x="1608120" y="2417760"/>
              <a:ext cx="361800" cy="1753920"/>
              <a:chOff x="1608120" y="2417760"/>
              <a:chExt cx="361800" cy="1753920"/>
            </a:xfrm>
          </p:grpSpPr>
          <p:sp>
            <p:nvSpPr>
              <p:cNvPr id="698" name=""/>
              <p:cNvSpPr/>
              <p:nvPr/>
            </p:nvSpPr>
            <p:spPr>
              <a:xfrm>
                <a:off x="1650600" y="2419200"/>
                <a:ext cx="298080" cy="1752480"/>
              </a:xfrm>
              <a:prstGeom prst="can">
                <a:avLst>
                  <a:gd name="adj" fmla="val 14490"/>
                </a:avLst>
              </a:prstGeom>
              <a:blipFill rotWithShape="0">
                <a:blip r:embed="rId25"/>
                <a:srcRect/>
                <a:tile tx="0" ty="0" sx="100000" sy="100000" algn="ctr"/>
              </a:blip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1650600" y="2539800"/>
                <a:ext cx="298080" cy="292320"/>
              </a:xfrm>
              <a:prstGeom prst="can">
                <a:avLst>
                  <a:gd name="adj" fmla="val 14490"/>
                </a:avLst>
              </a:prstGeom>
              <a:solidFill>
                <a:srgbClr val="ff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1608120" y="2417760"/>
                <a:ext cx="361800" cy="1699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1" name=""/>
            <p:cNvSpPr/>
            <p:nvPr/>
          </p:nvSpPr>
          <p:spPr>
            <a:xfrm>
              <a:off x="1244520" y="2324160"/>
              <a:ext cx="495360" cy="152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39680" y="1968480"/>
              <a:ext cx="1117800" cy="444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ang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eriferi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27080" y="3581280"/>
              <a:ext cx="1307880" cy="58428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terreno d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oltur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4" name=""/>
          <p:cNvGrpSpPr/>
          <p:nvPr/>
        </p:nvGrpSpPr>
        <p:grpSpPr>
          <a:xfrm>
            <a:off x="2008800" y="2892600"/>
            <a:ext cx="1506600" cy="765000"/>
            <a:chOff x="2008800" y="2892600"/>
            <a:chExt cx="1506600" cy="765000"/>
          </a:xfrm>
        </p:grpSpPr>
        <p:sp>
          <p:nvSpPr>
            <p:cNvPr id="705" name=""/>
            <p:cNvSpPr/>
            <p:nvPr/>
          </p:nvSpPr>
          <p:spPr>
            <a:xfrm>
              <a:off x="2095560" y="3174840"/>
              <a:ext cx="1066680" cy="482760"/>
            </a:xfrm>
            <a:custGeom>
              <a:avLst/>
              <a:gdLst>
                <a:gd name="textAreaLeft" fmla="*/ 166680 w 1066680"/>
                <a:gd name="textAreaRight" fmla="*/ 933480 w 1066680"/>
                <a:gd name="textAreaTop" fmla="*/ 120600 h 482760"/>
                <a:gd name="textAreaBottom" fmla="*/ 362160 h 48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4911"/>
                </a:gs>
                <a:gs pos="100000">
                  <a:srgbClr val="f6fa00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48-96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008800" y="2892600"/>
              <a:ext cx="150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proliferazio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7" name=""/>
          <p:cNvGrpSpPr/>
          <p:nvPr/>
        </p:nvGrpSpPr>
        <p:grpSpPr>
          <a:xfrm>
            <a:off x="3263760" y="1320840"/>
            <a:ext cx="1486080" cy="1079640"/>
            <a:chOff x="3263760" y="1320840"/>
            <a:chExt cx="1486080" cy="1079640"/>
          </a:xfrm>
        </p:grpSpPr>
        <p:sp>
          <p:nvSpPr>
            <p:cNvPr id="708" name=""/>
            <p:cNvSpPr/>
            <p:nvPr/>
          </p:nvSpPr>
          <p:spPr>
            <a:xfrm flipV="1">
              <a:off x="3720960" y="1930320"/>
              <a:ext cx="0" cy="470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263760" y="1320840"/>
              <a:ext cx="1486080" cy="571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olchici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(ultimi 30’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0" name=""/>
          <p:cNvGrpSpPr/>
          <p:nvPr/>
        </p:nvGrpSpPr>
        <p:grpSpPr>
          <a:xfrm>
            <a:off x="3882960" y="2892600"/>
            <a:ext cx="1669680" cy="384120"/>
            <a:chOff x="3882960" y="2892600"/>
            <a:chExt cx="1669680" cy="384120"/>
          </a:xfrm>
        </p:grpSpPr>
        <p:sp>
          <p:nvSpPr>
            <p:cNvPr id="711" name=""/>
            <p:cNvSpPr/>
            <p:nvPr/>
          </p:nvSpPr>
          <p:spPr>
            <a:xfrm>
              <a:off x="3882960" y="2892600"/>
              <a:ext cx="166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centrifugazio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936960" y="3276720"/>
              <a:ext cx="13334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3" name=""/>
          <p:cNvGrpSpPr/>
          <p:nvPr/>
        </p:nvGrpSpPr>
        <p:grpSpPr>
          <a:xfrm>
            <a:off x="5780520" y="3906720"/>
            <a:ext cx="982440" cy="456120"/>
            <a:chOff x="5780520" y="3906720"/>
            <a:chExt cx="982440" cy="456120"/>
          </a:xfrm>
        </p:grpSpPr>
        <p:sp>
          <p:nvSpPr>
            <p:cNvPr id="714" name=""/>
            <p:cNvSpPr/>
            <p:nvPr/>
          </p:nvSpPr>
          <p:spPr>
            <a:xfrm>
              <a:off x="5867280" y="3936960"/>
              <a:ext cx="6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780520" y="3906720"/>
              <a:ext cx="98244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pell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risospes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5753160" y="1346040"/>
            <a:ext cx="1650960" cy="2673000"/>
            <a:chOff x="5753160" y="1346040"/>
            <a:chExt cx="1650960" cy="2673000"/>
          </a:xfrm>
        </p:grpSpPr>
        <p:grpSp>
          <p:nvGrpSpPr>
            <p:cNvPr id="717" name=""/>
            <p:cNvGrpSpPr/>
            <p:nvPr/>
          </p:nvGrpSpPr>
          <p:grpSpPr>
            <a:xfrm>
              <a:off x="6459480" y="2265480"/>
              <a:ext cx="362160" cy="1753560"/>
              <a:chOff x="6459480" y="2265480"/>
              <a:chExt cx="362160" cy="1753560"/>
            </a:xfrm>
          </p:grpSpPr>
          <p:sp>
            <p:nvSpPr>
              <p:cNvPr id="718" name=""/>
              <p:cNvSpPr/>
              <p:nvPr/>
            </p:nvSpPr>
            <p:spPr>
              <a:xfrm>
                <a:off x="6502320" y="2266560"/>
                <a:ext cx="298440" cy="1752480"/>
              </a:xfrm>
              <a:prstGeom prst="can">
                <a:avLst>
                  <a:gd name="adj" fmla="val 14490"/>
                </a:avLst>
              </a:prstGeom>
              <a:blipFill rotWithShape="0">
                <a:blip r:embed="rId26"/>
                <a:srcRect/>
                <a:tile tx="0" ty="0" sx="100000" sy="100000" algn="ctr"/>
              </a:blip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6502320" y="2387520"/>
                <a:ext cx="298440" cy="291600"/>
              </a:xfrm>
              <a:prstGeom prst="can">
                <a:avLst>
                  <a:gd name="adj" fmla="val 14490"/>
                </a:avLst>
              </a:prstGeom>
              <a:solidFill>
                <a:srgbClr val="ff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6459480" y="2265480"/>
                <a:ext cx="362160" cy="169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1" name=""/>
            <p:cNvSpPr/>
            <p:nvPr/>
          </p:nvSpPr>
          <p:spPr>
            <a:xfrm>
              <a:off x="6591240" y="1727280"/>
              <a:ext cx="0" cy="622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753160" y="1346040"/>
              <a:ext cx="1650960" cy="368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Ipotonica 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(20’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3" name=""/>
          <p:cNvGrpSpPr/>
          <p:nvPr/>
        </p:nvGrpSpPr>
        <p:grpSpPr>
          <a:xfrm>
            <a:off x="6778800" y="2841480"/>
            <a:ext cx="1669680" cy="486000"/>
            <a:chOff x="6778800" y="2841480"/>
            <a:chExt cx="1669680" cy="486000"/>
          </a:xfrm>
        </p:grpSpPr>
        <p:sp>
          <p:nvSpPr>
            <p:cNvPr id="724" name=""/>
            <p:cNvSpPr/>
            <p:nvPr/>
          </p:nvSpPr>
          <p:spPr>
            <a:xfrm>
              <a:off x="6778800" y="2841480"/>
              <a:ext cx="166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centrifugazio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832440" y="3327480"/>
              <a:ext cx="1333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354240" y="5918040"/>
            <a:ext cx="982440" cy="456120"/>
            <a:chOff x="354240" y="5918040"/>
            <a:chExt cx="982440" cy="456120"/>
          </a:xfrm>
        </p:grpSpPr>
        <p:sp>
          <p:nvSpPr>
            <p:cNvPr id="727" name=""/>
            <p:cNvSpPr/>
            <p:nvPr/>
          </p:nvSpPr>
          <p:spPr>
            <a:xfrm>
              <a:off x="354240" y="5918040"/>
              <a:ext cx="98244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pell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risospes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20560" y="6210360"/>
              <a:ext cx="5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431640" y="4452840"/>
            <a:ext cx="1389240" cy="1892520"/>
            <a:chOff x="431640" y="4452840"/>
            <a:chExt cx="1389240" cy="1892520"/>
          </a:xfrm>
        </p:grpSpPr>
        <p:grpSp>
          <p:nvGrpSpPr>
            <p:cNvPr id="730" name=""/>
            <p:cNvGrpSpPr/>
            <p:nvPr/>
          </p:nvGrpSpPr>
          <p:grpSpPr>
            <a:xfrm>
              <a:off x="1459080" y="4591080"/>
              <a:ext cx="361800" cy="1754280"/>
              <a:chOff x="1459080" y="4591080"/>
              <a:chExt cx="361800" cy="1754280"/>
            </a:xfrm>
          </p:grpSpPr>
          <p:sp>
            <p:nvSpPr>
              <p:cNvPr id="731" name=""/>
              <p:cNvSpPr/>
              <p:nvPr/>
            </p:nvSpPr>
            <p:spPr>
              <a:xfrm>
                <a:off x="1501560" y="4592880"/>
                <a:ext cx="298080" cy="1752480"/>
              </a:xfrm>
              <a:prstGeom prst="can">
                <a:avLst>
                  <a:gd name="adj" fmla="val 14490"/>
                </a:avLst>
              </a:prstGeom>
              <a:blipFill rotWithShape="0">
                <a:blip r:embed="rId27"/>
                <a:srcRect/>
                <a:tile tx="0" ty="0" sx="100000" sy="100000" algn="ctr"/>
              </a:blip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1501560" y="4713480"/>
                <a:ext cx="298080" cy="291960"/>
              </a:xfrm>
              <a:prstGeom prst="can">
                <a:avLst>
                  <a:gd name="adj" fmla="val 14490"/>
                </a:avLst>
              </a:prstGeom>
              <a:solidFill>
                <a:srgbClr val="ff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1459080" y="4591080"/>
                <a:ext cx="361800" cy="1699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4" name=""/>
            <p:cNvSpPr/>
            <p:nvPr/>
          </p:nvSpPr>
          <p:spPr>
            <a:xfrm>
              <a:off x="852480" y="4452840"/>
              <a:ext cx="722160" cy="677880"/>
            </a:xfrm>
            <a:custGeom>
              <a:avLst/>
              <a:gdLst/>
              <a:ahLst/>
              <a:rect l="l" t="t" r="r" b="b"/>
              <a:pathLst>
                <a:path w="439" h="371">
                  <a:moveTo>
                    <a:pt x="63" y="371"/>
                  </a:moveTo>
                  <a:cubicBezTo>
                    <a:pt x="31" y="228"/>
                    <a:pt x="0" y="86"/>
                    <a:pt x="63" y="43"/>
                  </a:cubicBezTo>
                  <a:cubicBezTo>
                    <a:pt x="126" y="0"/>
                    <a:pt x="380" y="103"/>
                    <a:pt x="439" y="115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31640" y="5143680"/>
              <a:ext cx="1028880" cy="34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fissativ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6" name=""/>
          <p:cNvGrpSpPr/>
          <p:nvPr/>
        </p:nvGrpSpPr>
        <p:grpSpPr>
          <a:xfrm>
            <a:off x="1915200" y="6283440"/>
            <a:ext cx="2079720" cy="358560"/>
            <a:chOff x="1915200" y="6283440"/>
            <a:chExt cx="2079720" cy="358560"/>
          </a:xfrm>
        </p:grpSpPr>
        <p:sp>
          <p:nvSpPr>
            <p:cNvPr id="737" name=""/>
            <p:cNvSpPr/>
            <p:nvPr/>
          </p:nvSpPr>
          <p:spPr>
            <a:xfrm>
              <a:off x="1915200" y="6283440"/>
              <a:ext cx="207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centrifugazioni (2-3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955880" y="6642000"/>
              <a:ext cx="13334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9" name=""/>
          <p:cNvGrpSpPr/>
          <p:nvPr/>
        </p:nvGrpSpPr>
        <p:grpSpPr>
          <a:xfrm>
            <a:off x="1941480" y="4529160"/>
            <a:ext cx="1724040" cy="1862280"/>
            <a:chOff x="1941480" y="4529160"/>
            <a:chExt cx="1724040" cy="1862280"/>
          </a:xfrm>
        </p:grpSpPr>
        <p:grpSp>
          <p:nvGrpSpPr>
            <p:cNvPr id="740" name=""/>
            <p:cNvGrpSpPr/>
            <p:nvPr/>
          </p:nvGrpSpPr>
          <p:grpSpPr>
            <a:xfrm>
              <a:off x="1941480" y="4597560"/>
              <a:ext cx="361800" cy="1753920"/>
              <a:chOff x="1941480" y="4597560"/>
              <a:chExt cx="361800" cy="1753920"/>
            </a:xfrm>
          </p:grpSpPr>
          <p:sp>
            <p:nvSpPr>
              <p:cNvPr id="741" name=""/>
              <p:cNvSpPr/>
              <p:nvPr/>
            </p:nvSpPr>
            <p:spPr>
              <a:xfrm>
                <a:off x="1984320" y="4599000"/>
                <a:ext cx="298440" cy="1752480"/>
              </a:xfrm>
              <a:prstGeom prst="can">
                <a:avLst>
                  <a:gd name="adj" fmla="val 14490"/>
                </a:avLst>
              </a:prstGeom>
              <a:blipFill rotWithShape="0">
                <a:blip r:embed="rId28"/>
                <a:srcRect/>
                <a:tile tx="0" ty="0" sx="100000" sy="100000" algn="ctr"/>
              </a:blip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984320" y="4694400"/>
                <a:ext cx="298440" cy="1428480"/>
              </a:xfrm>
              <a:prstGeom prst="can">
                <a:avLst>
                  <a:gd name="adj" fmla="val 5810"/>
                </a:avLst>
              </a:prstGeom>
              <a:solidFill>
                <a:srgbClr val="ff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1941480" y="4597560"/>
                <a:ext cx="361800" cy="169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4" name=""/>
            <p:cNvGrpSpPr/>
            <p:nvPr/>
          </p:nvGrpSpPr>
          <p:grpSpPr>
            <a:xfrm>
              <a:off x="3303720" y="4637160"/>
              <a:ext cx="361800" cy="1754280"/>
              <a:chOff x="3303720" y="4637160"/>
              <a:chExt cx="361800" cy="1754280"/>
            </a:xfrm>
          </p:grpSpPr>
          <p:sp>
            <p:nvSpPr>
              <p:cNvPr id="745" name=""/>
              <p:cNvSpPr/>
              <p:nvPr/>
            </p:nvSpPr>
            <p:spPr>
              <a:xfrm>
                <a:off x="3346560" y="4638960"/>
                <a:ext cx="298440" cy="1752480"/>
              </a:xfrm>
              <a:prstGeom prst="can">
                <a:avLst>
                  <a:gd name="adj" fmla="val 14490"/>
                </a:avLst>
              </a:prstGeom>
              <a:blipFill rotWithShape="0">
                <a:blip r:embed="rId29"/>
                <a:srcRect/>
                <a:tile tx="0" ty="0" sx="100000" sy="100000" algn="ctr"/>
              </a:blip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3346560" y="4759560"/>
                <a:ext cx="298440" cy="291960"/>
              </a:xfrm>
              <a:prstGeom prst="can">
                <a:avLst>
                  <a:gd name="adj" fmla="val 14490"/>
                </a:avLst>
              </a:prstGeom>
              <a:solidFill>
                <a:srgbClr val="ff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3303720" y="4637160"/>
                <a:ext cx="361800" cy="1699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8" name=""/>
            <p:cNvSpPr/>
            <p:nvPr/>
          </p:nvSpPr>
          <p:spPr>
            <a:xfrm>
              <a:off x="2706840" y="4529160"/>
              <a:ext cx="823680" cy="563400"/>
            </a:xfrm>
            <a:custGeom>
              <a:avLst/>
              <a:gdLst/>
              <a:ahLst/>
              <a:rect l="l" t="t" r="r" b="b"/>
              <a:pathLst>
                <a:path w="439" h="371">
                  <a:moveTo>
                    <a:pt x="63" y="371"/>
                  </a:moveTo>
                  <a:cubicBezTo>
                    <a:pt x="31" y="228"/>
                    <a:pt x="0" y="86"/>
                    <a:pt x="63" y="43"/>
                  </a:cubicBezTo>
                  <a:cubicBezTo>
                    <a:pt x="126" y="0"/>
                    <a:pt x="380" y="103"/>
                    <a:pt x="439" y="115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286000" y="5105520"/>
              <a:ext cx="1028880" cy="34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fissativ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3751200" y="4648320"/>
            <a:ext cx="2325600" cy="1774800"/>
            <a:chOff x="3751200" y="4648320"/>
            <a:chExt cx="2325600" cy="1774800"/>
          </a:xfrm>
        </p:grpSpPr>
        <p:grpSp>
          <p:nvGrpSpPr>
            <p:cNvPr id="751" name=""/>
            <p:cNvGrpSpPr/>
            <p:nvPr/>
          </p:nvGrpSpPr>
          <p:grpSpPr>
            <a:xfrm>
              <a:off x="3751200" y="4668840"/>
              <a:ext cx="362160" cy="1754280"/>
              <a:chOff x="3751200" y="4668840"/>
              <a:chExt cx="362160" cy="1754280"/>
            </a:xfrm>
          </p:grpSpPr>
          <p:sp>
            <p:nvSpPr>
              <p:cNvPr id="752" name=""/>
              <p:cNvSpPr/>
              <p:nvPr/>
            </p:nvSpPr>
            <p:spPr>
              <a:xfrm>
                <a:off x="3794040" y="4670640"/>
                <a:ext cx="298440" cy="1752480"/>
              </a:xfrm>
              <a:prstGeom prst="can">
                <a:avLst>
                  <a:gd name="adj" fmla="val 14490"/>
                </a:avLst>
              </a:prstGeom>
              <a:blipFill rotWithShape="0">
                <a:blip r:embed="rId30"/>
                <a:srcRect/>
                <a:tile tx="0" ty="0" sx="100000" sy="100000" algn="ctr"/>
              </a:blip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3794040" y="4765680"/>
                <a:ext cx="298440" cy="1428840"/>
              </a:xfrm>
              <a:prstGeom prst="can">
                <a:avLst>
                  <a:gd name="adj" fmla="val 5810"/>
                </a:avLst>
              </a:prstGeom>
              <a:solidFill>
                <a:srgbClr val="ff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751200" y="4668840"/>
                <a:ext cx="362160" cy="1699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5" name=""/>
            <p:cNvGrpSpPr/>
            <p:nvPr/>
          </p:nvGrpSpPr>
          <p:grpSpPr>
            <a:xfrm>
              <a:off x="5715000" y="4648320"/>
              <a:ext cx="361800" cy="1753560"/>
              <a:chOff x="5715000" y="4648320"/>
              <a:chExt cx="361800" cy="1753560"/>
            </a:xfrm>
          </p:grpSpPr>
          <p:sp>
            <p:nvSpPr>
              <p:cNvPr id="756" name=""/>
              <p:cNvSpPr/>
              <p:nvPr/>
            </p:nvSpPr>
            <p:spPr>
              <a:xfrm>
                <a:off x="5757480" y="4649400"/>
                <a:ext cx="298080" cy="1752480"/>
              </a:xfrm>
              <a:prstGeom prst="can">
                <a:avLst>
                  <a:gd name="adj" fmla="val 14490"/>
                </a:avLst>
              </a:prstGeom>
              <a:blipFill rotWithShape="0">
                <a:blip r:embed="rId31"/>
                <a:srcRect/>
                <a:tile tx="0" ty="0" sx="100000" sy="100000" algn="ctr"/>
              </a:blip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5757480" y="4744800"/>
                <a:ext cx="298080" cy="1147320"/>
              </a:xfrm>
              <a:prstGeom prst="can">
                <a:avLst>
                  <a:gd name="adj" fmla="val 5810"/>
                </a:avLst>
              </a:prstGeom>
              <a:solidFill>
                <a:srgbClr val="ff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5715000" y="4648320"/>
                <a:ext cx="361800" cy="169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9" name=""/>
            <p:cNvSpPr/>
            <p:nvPr/>
          </p:nvSpPr>
          <p:spPr>
            <a:xfrm>
              <a:off x="4140360" y="4692600"/>
              <a:ext cx="1562040" cy="1219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risospensio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in poco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fissativo</a:t>
              </a: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229280" y="6076800"/>
              <a:ext cx="13334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1" name=""/>
          <p:cNvGrpSpPr/>
          <p:nvPr/>
        </p:nvGrpSpPr>
        <p:grpSpPr>
          <a:xfrm>
            <a:off x="6134040" y="4622760"/>
            <a:ext cx="2171880" cy="1587600"/>
            <a:chOff x="6134040" y="4622760"/>
            <a:chExt cx="2171880" cy="1587600"/>
          </a:xfrm>
        </p:grpSpPr>
        <p:sp>
          <p:nvSpPr>
            <p:cNvPr id="762" name=""/>
            <p:cNvSpPr/>
            <p:nvPr/>
          </p:nvSpPr>
          <p:spPr>
            <a:xfrm>
              <a:off x="6311880" y="4622760"/>
              <a:ext cx="1994040" cy="660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llestimento d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repara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134040" y="6210360"/>
              <a:ext cx="64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64" name="" descr=""/>
          <p:cNvPicPr/>
          <p:nvPr/>
        </p:nvPicPr>
        <p:blipFill>
          <a:blip r:embed="rId32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765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62120" y="6094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68" name=""/>
          <p:cNvSpPr/>
          <p:nvPr/>
        </p:nvSpPr>
        <p:spPr>
          <a:xfrm>
            <a:off x="113400" y="648828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2057040" y="685800"/>
            <a:ext cx="4724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Allestimento del prepara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0" name=""/>
          <p:cNvGrpSpPr/>
          <p:nvPr/>
        </p:nvGrpSpPr>
        <p:grpSpPr>
          <a:xfrm>
            <a:off x="914400" y="1295280"/>
            <a:ext cx="2095560" cy="1206720"/>
            <a:chOff x="914400" y="1295280"/>
            <a:chExt cx="2095560" cy="1206720"/>
          </a:xfrm>
        </p:grpSpPr>
        <p:sp>
          <p:nvSpPr>
            <p:cNvPr id="771" name=""/>
            <p:cNvSpPr/>
            <p:nvPr/>
          </p:nvSpPr>
          <p:spPr>
            <a:xfrm>
              <a:off x="914400" y="1295280"/>
              <a:ext cx="209556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fitoemoagglutini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(stimola la crescita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H="1">
              <a:off x="1790280" y="1816200"/>
              <a:ext cx="381240" cy="6858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"/>
          <p:cNvSpPr/>
          <p:nvPr/>
        </p:nvSpPr>
        <p:spPr>
          <a:xfrm>
            <a:off x="404280" y="1600200"/>
            <a:ext cx="572508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1) Allestimento della coltura</a:t>
            </a:r>
            <a:r>
              <a:rPr b="0" lang="en-US" sz="3200" spc="-1" strike="noStrike">
                <a:solidFill>
                  <a:srgbClr val="ffff02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94920" y="2362320"/>
            <a:ext cx="5193000" cy="5814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2) Preparazione dei vetri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34160" y="3048120"/>
            <a:ext cx="737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) Colorazione del preparato c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lorazioni differenziali di rout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69280" y="4419720"/>
            <a:ext cx="85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4) Osservazione al microscopio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lezione delle metafasi e acquisizion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lle immagin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7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778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762120" y="6094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81" name=""/>
          <p:cNvSpPr/>
          <p:nvPr/>
        </p:nvSpPr>
        <p:spPr>
          <a:xfrm>
            <a:off x="113400" y="6437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Analisi del carioti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/>
          <p:nvPr/>
        </p:nvSpPr>
        <p:spPr>
          <a:xfrm>
            <a:off x="381240" y="1447920"/>
            <a:ext cx="815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) Colorazione del preparato con colorazioni differenziali di rout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52280" y="2819520"/>
            <a:ext cx="3886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b02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Fluorocromi: Q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DAPI. Necessario un microscopi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a flurescen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5" name=""/>
          <p:cNvGrpSpPr/>
          <p:nvPr/>
        </p:nvGrpSpPr>
        <p:grpSpPr>
          <a:xfrm>
            <a:off x="4267080" y="2209680"/>
            <a:ext cx="4724640" cy="4262400"/>
            <a:chOff x="4267080" y="2209680"/>
            <a:chExt cx="4724640" cy="4262400"/>
          </a:xfrm>
        </p:grpSpPr>
        <p:pic>
          <p:nvPicPr>
            <p:cNvPr id="786" name="" descr=""/>
            <p:cNvPicPr/>
            <p:nvPr/>
          </p:nvPicPr>
          <p:blipFill>
            <a:blip r:embed="rId1"/>
            <a:stretch/>
          </p:blipFill>
          <p:spPr>
            <a:xfrm>
              <a:off x="4267080" y="2209680"/>
              <a:ext cx="4724640" cy="42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7" name=""/>
            <p:cNvSpPr/>
            <p:nvPr/>
          </p:nvSpPr>
          <p:spPr>
            <a:xfrm>
              <a:off x="7701840" y="4665600"/>
              <a:ext cx="31752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241040" y="2217600"/>
              <a:ext cx="0" cy="324000"/>
            </a:xfrm>
            <a:prstGeom prst="line">
              <a:avLst/>
            </a:prstGeom>
            <a:ln w="28440">
              <a:solidFill>
                <a:srgbClr val="fe2c0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89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790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762120" y="6094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93" name=""/>
          <p:cNvSpPr/>
          <p:nvPr/>
        </p:nvSpPr>
        <p:spPr>
          <a:xfrm>
            <a:off x="113400" y="6437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3123720" y="68580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Colorazione Q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"/>
          <p:cNvSpPr/>
          <p:nvPr/>
        </p:nvSpPr>
        <p:spPr>
          <a:xfrm>
            <a:off x="23040" y="2854440"/>
            <a:ext cx="2369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02"/>
                </a:solidFill>
                <a:latin typeface="Comic Sans MS"/>
              </a:rPr>
              <a:t>G-banding c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02"/>
                </a:solidFill>
                <a:latin typeface="Comic Sans MS"/>
              </a:rPr>
              <a:t>Giemsa dop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02"/>
                </a:solidFill>
                <a:latin typeface="Comic Sans MS"/>
              </a:rPr>
              <a:t>trattamen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02"/>
                </a:solidFill>
                <a:latin typeface="Comic Sans MS"/>
              </a:rPr>
              <a:t>con trips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81240" y="1066680"/>
            <a:ext cx="815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) Colorazione del preparato con colorazioni differenziali di rout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7" name="" descr=""/>
          <p:cNvPicPr/>
          <p:nvPr/>
        </p:nvPicPr>
        <p:blipFill>
          <a:blip r:embed="rId1"/>
          <a:stretch/>
        </p:blipFill>
        <p:spPr>
          <a:xfrm>
            <a:off x="2324160" y="1409760"/>
            <a:ext cx="6743520" cy="5371920"/>
          </a:xfrm>
          <a:prstGeom prst="rect">
            <a:avLst/>
          </a:prstGeom>
          <a:ln w="0">
            <a:noFill/>
          </a:ln>
        </p:spPr>
      </p:pic>
      <p:pic>
        <p:nvPicPr>
          <p:cNvPr id="798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799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762120" y="6094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02" name=""/>
          <p:cNvSpPr/>
          <p:nvPr/>
        </p:nvSpPr>
        <p:spPr>
          <a:xfrm>
            <a:off x="113400" y="6437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2666520" y="609120"/>
            <a:ext cx="35053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Colorazione Giem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09520" y="966960"/>
            <a:ext cx="8809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5335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809880" y="7632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5" name=""/>
          <p:cNvSpPr/>
          <p:nvPr/>
        </p:nvSpPr>
        <p:spPr>
          <a:xfrm>
            <a:off x="113400" y="64771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069920" y="2222640"/>
            <a:ext cx="1596960" cy="6127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3371760" y="2319480"/>
            <a:ext cx="944640" cy="4665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1069920" y="3141720"/>
            <a:ext cx="3498840" cy="504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1069920" y="3868560"/>
            <a:ext cx="1209600" cy="4906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>
            <a:off x="3249720" y="3922560"/>
            <a:ext cx="1184040" cy="4129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7"/>
          <a:stretch/>
        </p:blipFill>
        <p:spPr>
          <a:xfrm>
            <a:off x="1130400" y="4630680"/>
            <a:ext cx="796680" cy="2923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8"/>
          <a:stretch/>
        </p:blipFill>
        <p:spPr>
          <a:xfrm>
            <a:off x="3019320" y="4600440"/>
            <a:ext cx="1382760" cy="2667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130400" y="2854440"/>
            <a:ext cx="147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71760" y="2854440"/>
            <a:ext cx="88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30400" y="3686040"/>
            <a:ext cx="342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30400" y="4281480"/>
            <a:ext cx="106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09840" y="4276800"/>
            <a:ext cx="106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89080" y="4916520"/>
            <a:ext cx="70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78000" y="4925880"/>
            <a:ext cx="123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37400" y="279576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-3 gruppo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21640" y="2795760"/>
            <a:ext cx="142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4-5 gruppo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60320" y="3627360"/>
            <a:ext cx="171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-6-12 gruppo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77400" y="4211640"/>
            <a:ext cx="166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3-15 gruppo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71360" y="4218120"/>
            <a:ext cx="163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6-18 gruppo 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22680" y="4867200"/>
            <a:ext cx="162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9-20 gruppo 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51840" y="4879800"/>
            <a:ext cx="184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-21-22 gruppo 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52560" y="2146320"/>
            <a:ext cx="3659040" cy="3187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666880" y="914040"/>
            <a:ext cx="3733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Cariotipi a confro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9"/>
          <a:stretch/>
        </p:blipFill>
        <p:spPr>
          <a:xfrm>
            <a:off x="4952880" y="2209680"/>
            <a:ext cx="3735360" cy="31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"/>
          <p:cNvSpPr/>
          <p:nvPr/>
        </p:nvSpPr>
        <p:spPr>
          <a:xfrm>
            <a:off x="404280" y="1600200"/>
            <a:ext cx="572508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1) Allestimento della coltura</a:t>
            </a:r>
            <a:r>
              <a:rPr b="0" lang="en-US" sz="3200" spc="-1" strike="noStrike">
                <a:solidFill>
                  <a:srgbClr val="ffff02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94920" y="2362320"/>
            <a:ext cx="5193000" cy="5814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2) Preparazione dei vetri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429480" y="3103560"/>
            <a:ext cx="6589080" cy="106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3) Colorazione del preparato c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colorazioni differenziali di rout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69280" y="4419720"/>
            <a:ext cx="85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4) Osservazione al microscopio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lezione delle metafasi e acquisizion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lle immagin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8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809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762120" y="6094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12" name=""/>
          <p:cNvSpPr/>
          <p:nvPr/>
        </p:nvSpPr>
        <p:spPr>
          <a:xfrm>
            <a:off x="113400" y="6437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Analisi del carioti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4" name="" descr=""/>
          <p:cNvPicPr/>
          <p:nvPr/>
        </p:nvPicPr>
        <p:blipFill>
          <a:blip r:embed="rId1"/>
          <a:stretch/>
        </p:blipFill>
        <p:spPr>
          <a:xfrm>
            <a:off x="3352680" y="1143000"/>
            <a:ext cx="5639040" cy="5638680"/>
          </a:xfrm>
          <a:prstGeom prst="rect">
            <a:avLst/>
          </a:prstGeom>
          <a:ln w="0">
            <a:noFill/>
          </a:ln>
        </p:spPr>
      </p:pic>
      <p:pic>
        <p:nvPicPr>
          <p:cNvPr id="815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816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762120" y="6094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19" name=""/>
          <p:cNvSpPr/>
          <p:nvPr/>
        </p:nvSpPr>
        <p:spPr>
          <a:xfrm>
            <a:off x="113400" y="6437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Selezione delle metafa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44440" y="1644480"/>
            <a:ext cx="283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b02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ff0b02"/>
                </a:solidFill>
                <a:latin typeface="Comic Sans MS"/>
              </a:rPr>
              <a:t>Ottim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b02"/>
                </a:solidFill>
                <a:latin typeface="Comic Sans MS"/>
              </a:rPr>
              <a:t>ma….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2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762120" y="6094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26" name=""/>
          <p:cNvSpPr/>
          <p:nvPr/>
        </p:nvSpPr>
        <p:spPr>
          <a:xfrm>
            <a:off x="113400" y="6437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Selezione delle metafa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0" y="1066680"/>
            <a:ext cx="36576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b02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b02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ff0b02"/>
                </a:solidFill>
                <a:latin typeface="Comic Sans MS"/>
              </a:rPr>
              <a:t>Puo’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b02"/>
                </a:solidFill>
                <a:latin typeface="Comic Sans MS"/>
              </a:rPr>
              <a:t>esser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b02"/>
                </a:solidFill>
                <a:latin typeface="Comic Sans MS"/>
              </a:rPr>
              <a:t>anche cosi’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9" name="" descr=""/>
          <p:cNvPicPr/>
          <p:nvPr/>
        </p:nvPicPr>
        <p:blipFill>
          <a:blip r:embed="rId2"/>
          <a:stretch/>
        </p:blipFill>
        <p:spPr>
          <a:xfrm>
            <a:off x="3429000" y="99072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830" name=""/>
          <p:cNvSpPr/>
          <p:nvPr/>
        </p:nvSpPr>
        <p:spPr>
          <a:xfrm>
            <a:off x="76320" y="3809880"/>
            <a:ext cx="3276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b02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Cromosomi non ben riconoscibili, difficili anche 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cont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b02"/>
                </a:solidFill>
                <a:latin typeface="Comic Sans MS"/>
              </a:rPr>
              <a:t>Scartare!</a:t>
            </a: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b02"/>
                </a:solidFill>
                <a:latin typeface="Comic Sans MS"/>
              </a:rPr>
              <a:t>(potendo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3505320" y="1219320"/>
            <a:ext cx="5562360" cy="5562360"/>
          </a:xfrm>
          <a:prstGeom prst="rect">
            <a:avLst/>
          </a:prstGeom>
          <a:ln w="0">
            <a:noFill/>
          </a:ln>
        </p:spPr>
      </p:pic>
      <p:pic>
        <p:nvPicPr>
          <p:cNvPr id="832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833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762120" y="6094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36" name=""/>
          <p:cNvSpPr/>
          <p:nvPr/>
        </p:nvSpPr>
        <p:spPr>
          <a:xfrm>
            <a:off x="113400" y="6437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52280" y="1219320"/>
            <a:ext cx="350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b02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b02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ff0b02"/>
                </a:solidFill>
                <a:latin typeface="Comic Sans MS"/>
              </a:rPr>
              <a:t>.. O cosi’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666520" y="6858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Selezione delle metafa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45160" y="2362320"/>
            <a:ext cx="3213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b02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Troppo contrat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pero’ si puo’ us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per contarl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Scartare! </a:t>
            </a:r>
            <a:r>
              <a:rPr b="0" lang="en-US" sz="2400" spc="-1" strike="noStrike">
                <a:solidFill>
                  <a:srgbClr val="ff0b02"/>
                </a:solidFill>
                <a:latin typeface="Comic Sans MS"/>
              </a:rPr>
              <a:t>(potend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0" name="" descr=""/>
          <p:cNvPicPr/>
          <p:nvPr/>
        </p:nvPicPr>
        <p:blipFill>
          <a:blip r:embed="rId1"/>
          <a:stretch/>
        </p:blipFill>
        <p:spPr>
          <a:xfrm>
            <a:off x="3886200" y="1549440"/>
            <a:ext cx="5232240" cy="5232240"/>
          </a:xfrm>
          <a:prstGeom prst="rect">
            <a:avLst/>
          </a:prstGeom>
          <a:ln w="0">
            <a:noFill/>
          </a:ln>
        </p:spPr>
      </p:pic>
      <p:pic>
        <p:nvPicPr>
          <p:cNvPr id="841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842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762120" y="6094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45" name=""/>
          <p:cNvSpPr/>
          <p:nvPr/>
        </p:nvSpPr>
        <p:spPr>
          <a:xfrm>
            <a:off x="113400" y="6437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114440" y="685800"/>
            <a:ext cx="4724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Selezione delle metafa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76320" y="1219320"/>
            <a:ext cx="373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b02"/>
              </a:buClr>
              <a:buFont typeface="Wingding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b02"/>
                </a:solidFill>
                <a:latin typeface="Comic Sans MS"/>
              </a:rPr>
              <a:t>Suffici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1600" y="2152800"/>
            <a:ext cx="4028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b02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Si possono cont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Puo’ essere utile 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analizzare i cromoso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non sovrapp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9" name="" descr=""/>
          <p:cNvPicPr/>
          <p:nvPr/>
        </p:nvPicPr>
        <p:blipFill>
          <a:blip r:embed="rId1"/>
          <a:stretch/>
        </p:blipFill>
        <p:spPr>
          <a:xfrm>
            <a:off x="3581280" y="1295280"/>
            <a:ext cx="5486400" cy="5486400"/>
          </a:xfrm>
          <a:prstGeom prst="rect">
            <a:avLst/>
          </a:prstGeom>
          <a:ln w="0">
            <a:noFill/>
          </a:ln>
        </p:spPr>
      </p:pic>
      <p:sp>
        <p:nvSpPr>
          <p:cNvPr id="850" name=""/>
          <p:cNvSpPr/>
          <p:nvPr/>
        </p:nvSpPr>
        <p:spPr>
          <a:xfrm>
            <a:off x="76320" y="1219320"/>
            <a:ext cx="3352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b02"/>
              </a:buClr>
              <a:buFont typeface="Wingding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b02"/>
                </a:solidFill>
                <a:latin typeface="Comic Sans MS"/>
              </a:rPr>
              <a:t>Discret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1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852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762120" y="6094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55" name=""/>
          <p:cNvSpPr/>
          <p:nvPr/>
        </p:nvSpPr>
        <p:spPr>
          <a:xfrm>
            <a:off x="113400" y="6437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79640" y="2362320"/>
            <a:ext cx="3012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b02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Si posson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contare, e an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se ci sono alcu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sovrapposizioni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si posson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analizz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3733920" y="761760"/>
            <a:ext cx="5029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Selezione delle metafa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8" name="" descr=""/>
          <p:cNvPicPr/>
          <p:nvPr/>
        </p:nvPicPr>
        <p:blipFill>
          <a:blip r:embed="rId1"/>
          <a:stretch/>
        </p:blipFill>
        <p:spPr>
          <a:xfrm>
            <a:off x="3632040" y="1320840"/>
            <a:ext cx="5486400" cy="5486400"/>
          </a:xfrm>
          <a:prstGeom prst="rect">
            <a:avLst/>
          </a:prstGeom>
          <a:ln w="0">
            <a:noFill/>
          </a:ln>
        </p:spPr>
      </p:pic>
      <p:pic>
        <p:nvPicPr>
          <p:cNvPr id="859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632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860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62120" y="6094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63" name=""/>
          <p:cNvSpPr/>
          <p:nvPr/>
        </p:nvSpPr>
        <p:spPr>
          <a:xfrm>
            <a:off x="113400" y="6437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3962160" y="685800"/>
            <a:ext cx="4800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Selezione delle metafa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76320" y="1219320"/>
            <a:ext cx="3352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b02"/>
              </a:buClr>
              <a:buFont typeface="Wingding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b02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ff0b02"/>
                </a:solidFill>
                <a:latin typeface="Comic Sans MS"/>
              </a:rPr>
              <a:t>Buon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92600" y="2362320"/>
            <a:ext cx="3012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b02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Si posson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contare, e an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se ci sono alcu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sovrapposizioni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la morfologia de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cromosomi e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bu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"/>
          <p:cNvSpPr/>
          <p:nvPr/>
        </p:nvSpPr>
        <p:spPr>
          <a:xfrm>
            <a:off x="152280" y="190512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SI CONTANO I CROMOSOMI : IMPORTANTE PER SOSPETTARE LA PRESENZA DI ALTERAZIONI NEL NUMERO CROMOSO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100080" y="3886200"/>
            <a:ext cx="831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SI APPAIANO GLI OMOLOGHI PER SIMILARIT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95400" y="5121360"/>
            <a:ext cx="904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 SI METTONO IN ORDINE SECONDO LA CONVEN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0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871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85800" y="5335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74" name=""/>
          <p:cNvSpPr/>
          <p:nvPr/>
        </p:nvSpPr>
        <p:spPr>
          <a:xfrm>
            <a:off x="113400" y="6437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2362320" y="761760"/>
            <a:ext cx="4419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Come si fa il cariotip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6" name="" descr=""/>
          <p:cNvPicPr/>
          <p:nvPr/>
        </p:nvPicPr>
        <p:blipFill>
          <a:blip r:embed="rId1"/>
          <a:stretch/>
        </p:blipFill>
        <p:spPr>
          <a:xfrm>
            <a:off x="3295800" y="990720"/>
            <a:ext cx="5790960" cy="5790960"/>
          </a:xfrm>
          <a:prstGeom prst="rect">
            <a:avLst/>
          </a:prstGeom>
          <a:ln w="0">
            <a:noFill/>
          </a:ln>
        </p:spPr>
      </p:pic>
      <p:sp>
        <p:nvSpPr>
          <p:cNvPr id="877" name=""/>
          <p:cNvSpPr/>
          <p:nvPr/>
        </p:nvSpPr>
        <p:spPr>
          <a:xfrm>
            <a:off x="7156440" y="126216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851520" y="522432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3956040" y="1371600"/>
            <a:ext cx="4610160" cy="4749840"/>
            <a:chOff x="3956040" y="1371600"/>
            <a:chExt cx="4610160" cy="4749840"/>
          </a:xfrm>
        </p:grpSpPr>
        <p:sp>
          <p:nvSpPr>
            <p:cNvPr id="880" name=""/>
            <p:cNvSpPr/>
            <p:nvPr/>
          </p:nvSpPr>
          <p:spPr>
            <a:xfrm>
              <a:off x="5124240" y="1371600"/>
              <a:ext cx="3441960" cy="2662200"/>
            </a:xfrm>
            <a:custGeom>
              <a:avLst/>
              <a:gdLst/>
              <a:ahLst/>
              <a:rect l="l" t="t" r="r" b="b"/>
              <a:pathLst>
                <a:path w="2168" h="1677">
                  <a:moveTo>
                    <a:pt x="0" y="0"/>
                  </a:moveTo>
                  <a:cubicBezTo>
                    <a:pt x="67" y="101"/>
                    <a:pt x="134" y="198"/>
                    <a:pt x="208" y="296"/>
                  </a:cubicBezTo>
                  <a:cubicBezTo>
                    <a:pt x="232" y="369"/>
                    <a:pt x="295" y="421"/>
                    <a:pt x="320" y="496"/>
                  </a:cubicBezTo>
                  <a:cubicBezTo>
                    <a:pt x="336" y="545"/>
                    <a:pt x="342" y="612"/>
                    <a:pt x="368" y="656"/>
                  </a:cubicBezTo>
                  <a:cubicBezTo>
                    <a:pt x="388" y="690"/>
                    <a:pt x="416" y="740"/>
                    <a:pt x="440" y="776"/>
                  </a:cubicBezTo>
                  <a:cubicBezTo>
                    <a:pt x="452" y="826"/>
                    <a:pt x="481" y="861"/>
                    <a:pt x="520" y="896"/>
                  </a:cubicBezTo>
                  <a:cubicBezTo>
                    <a:pt x="541" y="914"/>
                    <a:pt x="555" y="912"/>
                    <a:pt x="576" y="936"/>
                  </a:cubicBezTo>
                  <a:cubicBezTo>
                    <a:pt x="611" y="976"/>
                    <a:pt x="615" y="1004"/>
                    <a:pt x="624" y="1056"/>
                  </a:cubicBezTo>
                  <a:cubicBezTo>
                    <a:pt x="618" y="1141"/>
                    <a:pt x="610" y="1213"/>
                    <a:pt x="600" y="1296"/>
                  </a:cubicBezTo>
                  <a:cubicBezTo>
                    <a:pt x="602" y="1317"/>
                    <a:pt x="595" y="1342"/>
                    <a:pt x="608" y="1360"/>
                  </a:cubicBezTo>
                  <a:cubicBezTo>
                    <a:pt x="617" y="1373"/>
                    <a:pt x="640" y="1370"/>
                    <a:pt x="656" y="1376"/>
                  </a:cubicBezTo>
                  <a:cubicBezTo>
                    <a:pt x="713" y="1395"/>
                    <a:pt x="774" y="1396"/>
                    <a:pt x="832" y="1416"/>
                  </a:cubicBezTo>
                  <a:cubicBezTo>
                    <a:pt x="890" y="1474"/>
                    <a:pt x="815" y="1405"/>
                    <a:pt x="896" y="1456"/>
                  </a:cubicBezTo>
                  <a:cubicBezTo>
                    <a:pt x="931" y="1478"/>
                    <a:pt x="914" y="1500"/>
                    <a:pt x="968" y="1512"/>
                  </a:cubicBezTo>
                  <a:cubicBezTo>
                    <a:pt x="1088" y="1538"/>
                    <a:pt x="1207" y="1573"/>
                    <a:pt x="1328" y="1600"/>
                  </a:cubicBezTo>
                  <a:cubicBezTo>
                    <a:pt x="1569" y="1653"/>
                    <a:pt x="1402" y="1635"/>
                    <a:pt x="1632" y="1648"/>
                  </a:cubicBezTo>
                  <a:cubicBezTo>
                    <a:pt x="1719" y="1677"/>
                    <a:pt x="1814" y="1668"/>
                    <a:pt x="1904" y="1656"/>
                  </a:cubicBezTo>
                  <a:cubicBezTo>
                    <a:pt x="1961" y="1636"/>
                    <a:pt x="1993" y="1564"/>
                    <a:pt x="2048" y="1528"/>
                  </a:cubicBezTo>
                  <a:cubicBezTo>
                    <a:pt x="2077" y="1483"/>
                    <a:pt x="2049" y="1518"/>
                    <a:pt x="2112" y="1472"/>
                  </a:cubicBezTo>
                  <a:cubicBezTo>
                    <a:pt x="2122" y="1464"/>
                    <a:pt x="2132" y="1454"/>
                    <a:pt x="2144" y="1448"/>
                  </a:cubicBezTo>
                  <a:cubicBezTo>
                    <a:pt x="2151" y="1443"/>
                    <a:pt x="2168" y="1440"/>
                    <a:pt x="2168" y="144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429160" y="3530520"/>
              <a:ext cx="1155600" cy="2590920"/>
            </a:xfrm>
            <a:custGeom>
              <a:avLst/>
              <a:gdLst/>
              <a:ahLst/>
              <a:rect l="l" t="t" r="r" b="b"/>
              <a:pathLst>
                <a:path w="728" h="1632">
                  <a:moveTo>
                    <a:pt x="384" y="0"/>
                  </a:moveTo>
                  <a:cubicBezTo>
                    <a:pt x="377" y="100"/>
                    <a:pt x="368" y="198"/>
                    <a:pt x="344" y="296"/>
                  </a:cubicBezTo>
                  <a:cubicBezTo>
                    <a:pt x="332" y="450"/>
                    <a:pt x="345" y="353"/>
                    <a:pt x="328" y="432"/>
                  </a:cubicBezTo>
                  <a:cubicBezTo>
                    <a:pt x="325" y="445"/>
                    <a:pt x="328" y="461"/>
                    <a:pt x="320" y="472"/>
                  </a:cubicBezTo>
                  <a:cubicBezTo>
                    <a:pt x="287" y="513"/>
                    <a:pt x="238" y="502"/>
                    <a:pt x="200" y="528"/>
                  </a:cubicBezTo>
                  <a:cubicBezTo>
                    <a:pt x="166" y="550"/>
                    <a:pt x="184" y="539"/>
                    <a:pt x="144" y="560"/>
                  </a:cubicBezTo>
                  <a:cubicBezTo>
                    <a:pt x="84" y="639"/>
                    <a:pt x="31" y="712"/>
                    <a:pt x="0" y="808"/>
                  </a:cubicBezTo>
                  <a:cubicBezTo>
                    <a:pt x="13" y="826"/>
                    <a:pt x="23" y="847"/>
                    <a:pt x="40" y="864"/>
                  </a:cubicBezTo>
                  <a:cubicBezTo>
                    <a:pt x="78" y="902"/>
                    <a:pt x="53" y="850"/>
                    <a:pt x="96" y="912"/>
                  </a:cubicBezTo>
                  <a:cubicBezTo>
                    <a:pt x="151" y="993"/>
                    <a:pt x="193" y="1085"/>
                    <a:pt x="248" y="1168"/>
                  </a:cubicBezTo>
                  <a:cubicBezTo>
                    <a:pt x="304" y="1253"/>
                    <a:pt x="377" y="1321"/>
                    <a:pt x="448" y="1392"/>
                  </a:cubicBezTo>
                  <a:cubicBezTo>
                    <a:pt x="490" y="1434"/>
                    <a:pt x="517" y="1486"/>
                    <a:pt x="568" y="1520"/>
                  </a:cubicBezTo>
                  <a:cubicBezTo>
                    <a:pt x="607" y="1579"/>
                    <a:pt x="680" y="1584"/>
                    <a:pt x="728" y="1632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956040" y="3809880"/>
              <a:ext cx="1955880" cy="482760"/>
            </a:xfrm>
            <a:custGeom>
              <a:avLst/>
              <a:gdLst/>
              <a:ahLst/>
              <a:rect l="l" t="t" r="r" b="b"/>
              <a:pathLst>
                <a:path w="1232" h="304">
                  <a:moveTo>
                    <a:pt x="1232" y="304"/>
                  </a:moveTo>
                  <a:cubicBezTo>
                    <a:pt x="1219" y="253"/>
                    <a:pt x="1196" y="220"/>
                    <a:pt x="1160" y="184"/>
                  </a:cubicBezTo>
                  <a:cubicBezTo>
                    <a:pt x="1148" y="150"/>
                    <a:pt x="1138" y="141"/>
                    <a:pt x="1112" y="120"/>
                  </a:cubicBezTo>
                  <a:cubicBezTo>
                    <a:pt x="1096" y="106"/>
                    <a:pt x="1088" y="85"/>
                    <a:pt x="1072" y="72"/>
                  </a:cubicBezTo>
                  <a:cubicBezTo>
                    <a:pt x="1038" y="44"/>
                    <a:pt x="942" y="15"/>
                    <a:pt x="896" y="0"/>
                  </a:cubicBezTo>
                  <a:cubicBezTo>
                    <a:pt x="783" y="12"/>
                    <a:pt x="678" y="41"/>
                    <a:pt x="568" y="64"/>
                  </a:cubicBezTo>
                  <a:cubicBezTo>
                    <a:pt x="504" y="61"/>
                    <a:pt x="439" y="61"/>
                    <a:pt x="376" y="56"/>
                  </a:cubicBezTo>
                  <a:cubicBezTo>
                    <a:pt x="329" y="51"/>
                    <a:pt x="286" y="30"/>
                    <a:pt x="240" y="24"/>
                  </a:cubicBezTo>
                  <a:cubicBezTo>
                    <a:pt x="221" y="21"/>
                    <a:pt x="54" y="0"/>
                    <a:pt x="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3" name=""/>
          <p:cNvSpPr/>
          <p:nvPr/>
        </p:nvSpPr>
        <p:spPr>
          <a:xfrm>
            <a:off x="4087800" y="499572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362480" y="2120760"/>
            <a:ext cx="33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616920" y="113040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2"/>
                </a:solidFill>
                <a:latin typeface="Comic Sans MS"/>
              </a:rPr>
              <a:t>4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6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887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85800" y="5335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90" name=""/>
          <p:cNvSpPr/>
          <p:nvPr/>
        </p:nvSpPr>
        <p:spPr>
          <a:xfrm>
            <a:off x="113400" y="6437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228240" y="914040"/>
            <a:ext cx="3048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Fare il carioti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2" name="" descr=""/>
          <p:cNvPicPr/>
          <p:nvPr/>
        </p:nvPicPr>
        <p:blipFill>
          <a:blip r:embed="rId1"/>
          <a:stretch/>
        </p:blipFill>
        <p:spPr>
          <a:xfrm>
            <a:off x="1684440" y="1908000"/>
            <a:ext cx="6011640" cy="4797720"/>
          </a:xfrm>
          <a:prstGeom prst="rect">
            <a:avLst/>
          </a:prstGeom>
          <a:ln w="0">
            <a:noFill/>
          </a:ln>
        </p:spPr>
      </p:pic>
      <p:sp>
        <p:nvSpPr>
          <p:cNvPr id="893" name=""/>
          <p:cNvSpPr/>
          <p:nvPr/>
        </p:nvSpPr>
        <p:spPr>
          <a:xfrm>
            <a:off x="1523880" y="1295280"/>
            <a:ext cx="645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02"/>
                </a:solidFill>
                <a:latin typeface="Comic Sans MS"/>
              </a:rPr>
              <a:t>CARIOTIPO IN QM (specifico il bandeggi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4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0" y="7632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895" name=""/>
          <p:cNvSpPr/>
          <p:nvPr/>
        </p:nvSpPr>
        <p:spPr>
          <a:xfrm>
            <a:off x="841320" y="19368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685800" y="5335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 txBox="1"/>
          <p:nvPr/>
        </p:nvSpPr>
        <p:spPr>
          <a:xfrm>
            <a:off x="3809880" y="15228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98" name=""/>
          <p:cNvSpPr/>
          <p:nvPr/>
        </p:nvSpPr>
        <p:spPr>
          <a:xfrm>
            <a:off x="113400" y="6437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3428640" y="685800"/>
            <a:ext cx="3505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Cariotipo ordina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25440" y="4343400"/>
            <a:ext cx="808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reano un’alternanza di bande chiare 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cure lungo l’asse del cromosom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pecifica per ogni coppia di omologh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33720" y="1736640"/>
            <a:ext cx="8721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lorano una regione specifica di alcuni 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 tutti i cromosomi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74800" y="3048120"/>
            <a:ext cx="784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-bande : tutti i centromeri e le regioni eterocromatiche variabi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i cromosomi 1,9,16,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2120" y="5335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7632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6" name=""/>
          <p:cNvSpPr/>
          <p:nvPr/>
        </p:nvSpPr>
        <p:spPr>
          <a:xfrm>
            <a:off x="113400" y="64771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99840" y="761760"/>
            <a:ext cx="6095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Metodi colorazione differenzi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905120" y="1676520"/>
            <a:ext cx="6554520" cy="49910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981080" y="2209680"/>
            <a:ext cx="381240" cy="152640"/>
          </a:xfrm>
          <a:prstGeom prst="rightArrow">
            <a:avLst>
              <a:gd name="adj1" fmla="val 50000"/>
              <a:gd name="adj2" fmla="val 6244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3657600"/>
            <a:ext cx="380880" cy="152280"/>
          </a:xfrm>
          <a:prstGeom prst="rightArrow">
            <a:avLst>
              <a:gd name="adj1" fmla="val 50000"/>
              <a:gd name="adj2" fmla="val 6253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96080" y="6019920"/>
            <a:ext cx="457200" cy="152280"/>
          </a:xfrm>
          <a:prstGeom prst="leftArrow">
            <a:avLst>
              <a:gd name="adj1" fmla="val 50000"/>
              <a:gd name="adj2" fmla="val 7505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93960" y="1066680"/>
            <a:ext cx="597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tilizzando la mostarda di quinacrina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54936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809880" y="9216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168840" y="64771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895120" y="68580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QM-banding patt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54936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809880" y="9216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24" name=""/>
          <p:cNvSpPr/>
          <p:nvPr/>
        </p:nvSpPr>
        <p:spPr>
          <a:xfrm>
            <a:off x="113400" y="64771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742840" y="6094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DAPI   e   Q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1892160"/>
            <a:ext cx="4114800" cy="4113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114800" y="2057400"/>
            <a:ext cx="502920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335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809880" y="7632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32" name=""/>
          <p:cNvSpPr/>
          <p:nvPr/>
        </p:nvSpPr>
        <p:spPr>
          <a:xfrm>
            <a:off x="113400" y="64771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676520" y="1295280"/>
            <a:ext cx="6743520" cy="53722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76720" y="685800"/>
            <a:ext cx="1828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G-ba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1295280"/>
            <a:ext cx="6502680" cy="50673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2120" y="5335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9880" y="7632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40" name=""/>
          <p:cNvSpPr/>
          <p:nvPr/>
        </p:nvSpPr>
        <p:spPr>
          <a:xfrm>
            <a:off x="113400" y="64771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971800" y="609480"/>
            <a:ext cx="1752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R-ba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590920" y="1219320"/>
            <a:ext cx="5305320" cy="54864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133720" y="2971800"/>
            <a:ext cx="5331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3276720" y="449568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2120" y="5335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809880" y="7632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49" name=""/>
          <p:cNvSpPr/>
          <p:nvPr/>
        </p:nvSpPr>
        <p:spPr>
          <a:xfrm>
            <a:off x="113400" y="64771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85840" y="609480"/>
            <a:ext cx="2133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Diagram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04800" y="3048120"/>
            <a:ext cx="1843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662760" y="1219320"/>
            <a:ext cx="4862520" cy="916920"/>
            <a:chOff x="662760" y="1219320"/>
            <a:chExt cx="4862520" cy="916920"/>
          </a:xfrm>
        </p:grpSpPr>
        <p:sp>
          <p:nvSpPr>
            <p:cNvPr id="153" name=""/>
            <p:cNvSpPr/>
            <p:nvPr/>
          </p:nvSpPr>
          <p:spPr>
            <a:xfrm>
              <a:off x="662760" y="1219320"/>
              <a:ext cx="486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46,XX - cariotipo normale Femmini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01640" y="1676520"/>
              <a:ext cx="463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46,XY - cariotipo normale Maschi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430560" y="2209680"/>
            <a:ext cx="593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o modo di scrivere ci da’ due informazion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umero totale dei cromosomi (4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sso dell’organis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27240" y="3568680"/>
            <a:ext cx="62020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47,XY,+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aschio con 47 cromosomi (invece di 46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d un cromosoma 21 in piu’ (sindrome di Dow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11560" y="5181480"/>
            <a:ext cx="556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6,XX,del(14)(q23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l=delezio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69800" y="5562720"/>
            <a:ext cx="60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6,XY,dup(14)(q22q25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up= duplic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61880" y="5943600"/>
            <a:ext cx="744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6,XX,r(7)(p22q36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=ring (cromosoma ad anello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943240" y="83808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Terminolo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533520"/>
            <a:ext cx="8153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7632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</a:t>
            </a:r>
            <a:endParaRPr b="1" i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113400" y="64771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GP&amp;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60948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8T13:04:24Z</dcterms:created>
  <dc:creator>Rocchi</dc:creator>
  <dc:description/>
  <dc:language>en-US</dc:language>
  <cp:lastModifiedBy>Rocchi</cp:lastModifiedBy>
  <dcterms:modified xsi:type="dcterms:W3CDTF">2003-02-07T13:58:51Z</dcterms:modified>
  <cp:revision>92</cp:revision>
  <dc:subject/>
  <dc:title>PowerPoint Presentation</dc:title>
</cp:coreProperties>
</file>